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30.jpeg" ContentType="image/jpe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  <p:sldId id="280" r:id="rId46"/>
    <p:sldId id="281" r:id="rId47"/>
    <p:sldId id="282" r:id="rId48"/>
    <p:sldId id="283" r:id="rId49"/>
    <p:sldId id="284" r:id="rId50"/>
    <p:sldId id="285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slide" Target="slides/slide25.xml"/><Relationship Id="rId47" Type="http://schemas.openxmlformats.org/officeDocument/2006/relationships/slide" Target="slides/slide26.xml"/><Relationship Id="rId48" Type="http://schemas.openxmlformats.org/officeDocument/2006/relationships/slide" Target="slides/slide27.xml"/><Relationship Id="rId49" Type="http://schemas.openxmlformats.org/officeDocument/2006/relationships/slide" Target="slides/slide28.xml"/><Relationship Id="rId50" Type="http://schemas.openxmlformats.org/officeDocument/2006/relationships/slide" Target="slides/slide29.xml"/><Relationship Id="rId51" Type="http://schemas.openxmlformats.org/officeDocument/2006/relationships/slide" Target="slides/slide30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dt" idx="39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ldImg"/>
          </p:nvPr>
        </p:nvSpPr>
        <p:spPr>
          <a:xfrm>
            <a:off x="1143000" y="448920"/>
            <a:ext cx="4570560" cy="390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 type="sldNum" idx="40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B92C54C-C31E-440A-A5C9-250027654308}" type="slidenum">
              <a:rPr b="0" lang="ru-RU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C1514E7-5543-446A-B316-D89D2EF77A88}" type="slidenum">
              <a:rPr b="0" lang="ru-RU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Lucida Sans Unicode"/>
            </a:endParaRPr>
          </a:p>
        </p:txBody>
      </p:sp>
      <p:sp>
        <p:nvSpPr>
          <p:cNvPr id="97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B1275F0-C656-4E65-B0C5-0DFEF31065C6}" type="slidenum">
              <a:rPr b="0" lang="ru-RU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0F64E-5153-4D70-B568-9A938F3DB4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E241E-8194-4E5E-A4CA-A9B066F30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4A35C3-2A23-4393-9BD2-DD9BA9B9D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38DAD1-422A-4E33-9D5A-660949626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8A2EF6-5214-464C-8D5E-EA7E750E4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9AF701-E651-4599-B182-C78259634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9985F5-2D92-41A5-A5A4-E5267557E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3CD14-4A17-46B2-90D9-237EF8C0F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F95115-D3BF-4408-95A7-8822E41BC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9F4C97-1ED6-4FDF-964F-2A924065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BA0C04-01E1-4D96-881F-9022A1D0077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77751C-09E3-4D10-83A7-628D0A5628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76946-BFF2-4C21-8782-904FD38B1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25DB31-A419-494E-8C3F-E882550A1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5167D7-3BE6-42D2-B1F8-6A58C84C5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E6A5B3-65FA-4D76-B7F1-AF46E1CCB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791FA6-6E67-4D49-A624-88171408D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6EF61C-C1D0-4D04-9744-C385B4EDB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B4D23B-AAEF-4128-B1DC-D02CE08A1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4905DE-D80B-4C62-BCDB-54828EDDC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2C8AC5-0A22-4A7F-9D10-E6DCEDD5F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3E6BDD-10DF-4885-A14F-200F03BB9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B87D0D-4D7F-4701-B0B4-2F7DF8FF7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C454B-CA6D-41E3-A9BA-887CF94D073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B28D7D-5DB5-44A9-88DB-5AB16AD88E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FC59A5D-C5F2-4606-A428-8352D23521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4F723A0-88AC-4831-A9E1-8B41675BF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0ED9AD8-D57F-4343-BCA6-49F6D1BB8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834DD70-0E7B-437F-B5BF-E3F07DC68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DBA5A3B-BA7F-469B-8448-7E4BD044A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F8D25E3-BE0E-4202-8D0D-19136DC9E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6572B68-0518-416D-9CE6-8C3634281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173C81A-CFFB-4C89-9AA5-1000AA95C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B159D55-E54B-47C7-98E5-991D9DE49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491209-F49F-465A-BF7A-646C3E4252F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C32A2F0-44C2-454A-AF6B-DF6E670DB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15BE54E-F6AA-48FF-B8F4-3D74CFC89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5AFBAA9-4338-49A7-9544-6319603B7B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C6A698-0D07-480D-A734-E5C93720654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9A9B41-5D36-4C80-A752-9B9FC3A9F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7DFB1D-E060-4DA9-BEE1-046702C7B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F5568C-A4D9-479D-8878-E308726DE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2BAF35-A1D6-440A-B830-EAB34AAFB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424D23-70C9-4AB0-A34B-6367F97CD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8EC32C-365A-48BD-90D5-78437548A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F3A98B-3E83-4A3F-9F01-013DC62C5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6BC5DF-67A5-4CCB-8A7F-5929DF4A2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13052E-4106-4DFC-9424-E904D9E14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A25376-D897-4724-A859-AD7EC3293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1D1E52-FF27-4E34-9320-9EF3B90B3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DDFA33-2F86-455B-89F7-F7F4C26294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7C1695F-A4C0-4443-B3D0-C44A0A6178C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375933B-BFE6-436F-B515-8CEFABEBF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AC3DD27-3199-4EB8-9790-CE8A92BCC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D9649EA-649E-487E-AD63-F11F6E9FE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6F8C4E9-7BA8-4C6F-8DA3-B06F727CA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3EFC02-C0A7-43A9-AD6B-D235E0EEB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69A5017-84A6-4AC8-A726-6CABC58FD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4162EC4-1CAF-47ED-8613-B6FB6FC38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12EFC20-7D1B-48E3-AC32-D505CE637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13A524A-78E5-4F15-BE54-FBC95CDB3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72A3D08-1D83-40AA-AE9D-19B3E5D82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8221934-7DAA-4D91-AF96-C7297379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E0FFA55-0C5A-486D-91C2-84FC963E7C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EE59DB-7E56-4524-9E97-F015E75832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41B92A-0442-4FDB-9114-3F14FE16C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C4B486-8610-4598-BC3D-4E1112F8B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D2898E-9871-4339-984B-9FBFB4E70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A08E39-A46F-40DB-ADA0-E5780AA83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95F4D6-CD67-4988-892B-B50B4FC9A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991B33-A5DD-46F3-9603-3362338B1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2CEEEA-453D-472D-B7F0-921C891C7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F221DB-B6B7-47F6-8405-DFD8DE423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B22460-67EA-41A5-9662-FB61DEE7C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6A3757-ED5A-42EF-AAC8-183DF68CC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46B736-10B5-4173-BD25-A1AF7594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A5DC87-D127-4F72-A0C4-2F9C61089A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D03841-2400-4139-9F32-B9A1CC7798D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41D5A7-0477-4B26-B0B1-E0C1F39A4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74B841-3F26-4D9E-98A2-8AB61EF05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48D41F-1C70-4E10-9A54-B9FA83979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9A5E73-F458-4E67-A6C9-D6EE70F32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C91CD6-F4CC-4923-BF05-82FE9ECCC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9B2FFF-8FF0-47F8-BB07-9398BC812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A016BB-2CFB-469D-B963-DCD1E77D2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01416F-05C0-4E3E-B309-4CF6DE423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85FBA3-1DDF-401F-B141-EEAE932BD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C1B235-B580-4996-ACD4-DDAA5908E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752BA6-B23B-4629-AD28-522A0D2D5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E652EA-0158-42EA-99E2-115CCC9E2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6BA188-444A-4ECF-98AB-BE0AFB6751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E11BCF2-064A-4609-A273-FD3FB0E405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327992E-97AA-4070-AA66-1F6FC841D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C265122-206D-416F-8B85-0CE2835D0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761F3F5-C556-4FBD-B925-D3CEB0ECD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946492D-7657-4626-95EF-C9632EE45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E7F302F-72BD-4FD3-A5BE-8979D9893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E2AE60F-E89C-4AF0-A14A-BBF3072D0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CB7D257-5412-4D39-84AC-79486FD20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F52681A-F38D-4D23-B028-6EB7A9A72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6B2BC5-EA2E-4C59-88BB-7B6E0E58F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36DD252-A3E0-4A12-B108-BC7DFD710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9470100-F816-4CA8-9E97-FC400DFD4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DAD8906-98AD-4292-916B-EF3ACB017F8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1BB9AD-841E-47BA-B3FC-9B8AC50B258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39A01E-037C-45C6-BA91-B75BF0AAB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AC4BC4-C857-48E9-8109-EA6DB004A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C67C7C-4212-4C3D-8E66-EA3CCACE7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149FFD-6380-490A-B9BC-534979E41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27A854-C10C-4B6E-B256-A31199650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CEAF4F-ADEF-4F03-BA47-A1128D06E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29CA2-DDAA-4261-AB61-2EFF6E5B8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3BC807-0780-4254-917D-B5C9A147A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D5693D-F812-4B76-81AF-EC10E9D27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23947B-D813-44F8-B89F-0A8B5831A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A510FA-A0E0-476F-9B2C-3CDE47345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6C14B9-1237-4C6C-9F2F-3CE4EEA4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5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6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C87D7F-D275-4CAD-BEC9-DE4D06A6C0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199AA3-9E64-4368-B511-05904278D9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E44C7F-EA21-4B6C-BF70-BADACA8FC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06ABBC-5882-4495-B781-FDC523A0A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71FB6E-F719-4415-A185-15F5FD414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3ABC49-3045-45CE-914B-3F6C19614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85A46E-72D0-4A35-9289-B52EB8D69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252510-FBF8-46EC-A593-9A310B682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3D36CB-5047-4AE1-AC8A-D9EFCF4AA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87FC29-0B87-4033-8C53-14B26CAEB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3EB53C-5345-421F-9049-D26943FD4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D05F34-68F3-4A66-AE38-58E540585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9C6A1E-0BC1-4440-97BA-5FA680E0A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3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4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B8255C-671A-4941-AD35-175AF5B073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B19C510-75F5-4041-81D8-2B835BEF60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D66B520-8D4F-4227-8B8C-660431A5A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8E84617-0AA4-4096-8474-4C2CBD7CF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58C9FA-A7E7-41CC-878B-D79C7CB66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47AC698-6FA7-4EAD-ACAB-7B7BEECBE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40EA701-6A3D-48CF-B7E7-36CA8AE1C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E4BED8B-0EBA-41BA-A44E-FBC5F1C15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CDE2701-33A4-49FF-857C-6CC632DB3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9B9EF3A-E1DB-4267-9427-4A2DBA6D2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7C06247-8B7F-44BF-9D51-837792FE0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D3DB4F3-352C-474B-A8D0-AE8D71EFF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8432A62-564E-4588-A8BF-0D6D3A57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EA23B8C-F675-48F4-AE0A-200A236669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68BECF-DD51-4E6A-B319-654A8287A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5247C0-E171-4E69-BEB4-921F77E473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E58C0-8088-40FE-BCD2-83E73869F66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317DF-F69E-4161-8232-C6D1FE2FD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57D0C-78BE-48AA-986B-8CD9E6583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8BD9C-C3F1-4049-AE1E-4B49AEAB7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17975-BAB4-4FE8-B45D-D46F6D9F8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C7EDE-072F-42B0-81D4-7DFD9596F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7C890-4E01-4BC7-B1C3-2C4DE4E6F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151A7-2453-416F-B7FB-43428BC07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58C05-5C58-48A1-AE6B-22E69E8B5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1CCAC-3092-4C45-A3F1-E43A7EEBB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76FB9-B566-4038-A71E-C961C08EE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BA192-3B0A-46F0-892C-8722EBFA3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63FFE-3BFE-45D1-9C38-B4F5D93C6E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FC4FA2-F2CA-44B7-9608-B3176A1E67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448317-8306-493D-A4E0-1965D77A6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4B0755-0764-4AEF-934F-80125978D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6D0E3-FF47-4AE4-A56F-773C9EA6B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C5AD5B-1DC4-4A16-A082-EEB23A4C1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D312E7-5465-40B8-A7A4-A0B1D0EAD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78D2D1-8F7D-40FF-993B-791FD7A5A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FFA96C-DE0E-4733-96F3-374C7C351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885988-126B-4B5A-8243-EA84E180A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75F561-9CF6-45C8-93B2-C407B77A3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ED1541-CEE1-498B-AD1D-C47F44104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93FE90-5F31-4353-81EE-EF3887A8C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73EF3D-240E-4B07-9F81-697A505768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09CAA-8D1B-4BBA-8C3C-1201DAC704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65B6E-B318-4317-991D-53AE83224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22B5F-EED4-4E87-8F4E-4C550D8CA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52658-7008-47EF-AAE7-2AEF3C58E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71DC8-959D-4A5C-A99A-16FEA6092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E0A5D-1C77-4649-A24D-0294444D0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07451-725B-4904-B731-CFFAEAE94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1C202-8DD4-402B-A7E5-0C1020B39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FA097-EC1D-4459-9C90-1598A04DB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210ED-A33D-45F0-8F2F-38E39EF2D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62D58-5BB4-4E53-B14C-4608BAA49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3EBE6-0550-4471-8D5D-23A46AA61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80857-40D6-4DC2-B1F5-9A81EFB10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9957E-7684-44A3-892F-F501B7D5D5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D0F5B-A887-459C-91A3-886C5B5761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40809-DFF8-459F-8202-8311E5CD0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D8E00-372C-48F7-B164-25790970D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115B9-0E82-4964-9CB2-82D084A71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9654A-69A8-4D0B-96E3-4DDBC6987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38EFB-C48B-4A1C-8235-DE4665C5D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EE412-077F-48B9-9461-B3314EE2A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A9D8D-C111-4844-A919-A0A93389D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EED7A-251C-440D-856F-AE673BD03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3B488-919E-4579-8A25-4E73559D7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525A4-1704-431C-86A1-572654EC5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A61B5-EDB2-46B8-8DD9-AF092F21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F4675-C73F-490B-8177-E95E1451EC1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0F6E5E-9F06-4662-816A-FB35D6EC50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C5D870-57F1-4DAF-B869-5E978A543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EB77DB-F817-4EEC-B982-FB1F6C73F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0D7A9E-E873-4058-A0B5-FC6CD5CD7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5DE463-028E-45AE-9DF1-6FDDB0FBA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EE9607-72AB-4B87-958D-D3993B8C2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739195-40B5-405C-9BFA-80A0752B6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CD0F3-DAAB-474D-BDE4-F3EC91AE6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AA5D91-F0F6-4A9E-9412-02C0635C6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88D58B-A4CE-4E3A-87D2-7D1F7F7FC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D55199-C9EA-4BEC-8661-F796A562A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0CEC5E-A2F1-4422-829A-E72B448D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5DA6C2-44CB-4585-9FCD-1C26C69C5FE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4234805-6995-406E-8FA6-D95B4C7E164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ACC3BDE-4E75-4ECF-851A-FE737DA9A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42E250B-7250-4B3E-BC4A-4CEA264E1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2DB1ED8-BA1B-4FDE-B55E-D59DE03A3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47B5F22-BDCF-4B9F-BB0C-3485F58CA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098B4-0005-482D-ACC3-DA3803276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D2538B2-90F7-4BC5-B98E-F59461CDD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9A753DE-3476-40F7-BB84-B7F1B8D5C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3B39E97-6400-4A94-9073-A3F186E5E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BE8C1B0-CFA4-4062-8006-41D62BBC2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2F9B79D-F5E7-4643-A609-8AC5C8C84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8924DEA-9C6B-4B61-B8B7-7CB0912BA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D5A0E09-57D7-4756-BB98-B417DD7F8D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B58B42-A919-4AAC-B4AC-224E2513AD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A81EC7-1019-4B30-804C-2524423C4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BDC5F9-392D-413F-A6B3-80473EB7D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ebf8"/>
              </a:gs>
              <a:gs pos="100000">
                <a:srgbClr val="0079a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9be5"/>
              </a:gs>
              <a:gs pos="100000">
                <a:srgbClr val="00adb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B2F2B34-D77D-4E7E-90DD-4A9B9533A949}" type="slidenum">
              <a:rPr b="0" lang="ru-RU" sz="18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19080" y="203040"/>
            <a:ext cx="9180720" cy="648000"/>
            <a:chOff x="-19080" y="203040"/>
            <a:chExt cx="9180720" cy="648000"/>
          </a:xfrm>
        </p:grpSpPr>
        <p:grpSp>
          <p:nvGrpSpPr>
            <p:cNvPr id="8" name=""/>
            <p:cNvGrpSpPr/>
            <p:nvPr/>
          </p:nvGrpSpPr>
          <p:grpSpPr>
            <a:xfrm>
              <a:off x="-19080" y="203040"/>
              <a:ext cx="9155160" cy="648000"/>
              <a:chOff x="-19080" y="203040"/>
              <a:chExt cx="9155160" cy="648000"/>
            </a:xfrm>
          </p:grpSpPr>
          <p:pic>
            <p:nvPicPr>
              <p:cNvPr id="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3284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20000">
                <a:off x="-18720" y="4791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"/>
            <p:cNvGrpSpPr/>
            <p:nvPr/>
          </p:nvGrpSpPr>
          <p:grpSpPr>
            <a:xfrm>
              <a:off x="-19080" y="247680"/>
              <a:ext cx="9180720" cy="561960"/>
              <a:chOff x="-19080" y="247680"/>
              <a:chExt cx="9180720" cy="561960"/>
            </a:xfrm>
          </p:grpSpPr>
          <p:pic>
            <p:nvPicPr>
              <p:cNvPr id="1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4880" cy="56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20000">
                <a:off x="-18720" y="523440"/>
                <a:ext cx="1440" cy="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7923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19"/>
          </p:nvPr>
        </p:nvSpPr>
        <p:spPr>
          <a:xfrm>
            <a:off x="5714640" y="6356160"/>
            <a:ext cx="1522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4" name=""/>
          <p:cNvSpPr/>
          <p:nvPr/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sldNum" idx="20"/>
          </p:nvPr>
        </p:nvSpPr>
        <p:spPr>
          <a:xfrm>
            <a:off x="7543440" y="6356160"/>
            <a:ext cx="988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1DCCC6DA-D7DB-4F90-B96D-FFB1DC323B38}" type="slidenum">
              <a: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7923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1"/>
          </p:nvPr>
        </p:nvSpPr>
        <p:spPr>
          <a:xfrm>
            <a:off x="5714640" y="6356160"/>
            <a:ext cx="1522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6" name=""/>
          <p:cNvSpPr/>
          <p:nvPr/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sldNum" idx="22"/>
          </p:nvPr>
        </p:nvSpPr>
        <p:spPr>
          <a:xfrm>
            <a:off x="7543440" y="6356160"/>
            <a:ext cx="988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2BE1E621-FBDB-4B2D-8B43-716A0477785A}" type="slidenum">
              <a: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1ad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" descr=""/>
          <p:cNvPicPr/>
          <p:nvPr/>
        </p:nvPicPr>
        <p:blipFill>
          <a:blip r:embed="rId2"/>
          <a:stretch/>
        </p:blipFill>
        <p:spPr>
          <a:xfrm>
            <a:off x="8823240" y="0"/>
            <a:ext cx="320760" cy="6858000"/>
          </a:xfrm>
          <a:prstGeom prst="rect">
            <a:avLst/>
          </a:prstGeom>
          <a:ln w="0">
            <a:noFill/>
          </a:ln>
        </p:spPr>
      </p:pic>
      <p:pic>
        <p:nvPicPr>
          <p:cNvPr id="475" name="" descr=""/>
          <p:cNvPicPr/>
          <p:nvPr/>
        </p:nvPicPr>
        <p:blipFill>
          <a:blip r:embed="rId3"/>
          <a:stretch/>
        </p:blipFill>
        <p:spPr>
          <a:xfrm>
            <a:off x="6850080" y="0"/>
            <a:ext cx="2293920" cy="685800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7720" cy="57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457200" y="456840"/>
            <a:ext cx="3656160" cy="57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dt" idx="23"/>
          </p:nvPr>
        </p:nvSpPr>
        <p:spPr>
          <a:xfrm>
            <a:off x="3582720" y="6365520"/>
            <a:ext cx="2817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sldNum" idx="24"/>
          </p:nvPr>
        </p:nvSpPr>
        <p:spPr>
          <a:xfrm>
            <a:off x="6414840" y="6352920"/>
            <a:ext cx="4554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652280E-80AA-4F62-B323-6510D4734F36}" type="slidenum">
              <a: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"/>
          <p:cNvSpPr/>
          <p:nvPr/>
        </p:nvSpPr>
        <p:spPr>
          <a:xfrm>
            <a:off x="3581280" y="6202440"/>
            <a:ext cx="28209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1ad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" descr=""/>
          <p:cNvPicPr/>
          <p:nvPr/>
        </p:nvPicPr>
        <p:blipFill>
          <a:blip r:embed="rId2"/>
          <a:stretch/>
        </p:blipFill>
        <p:spPr>
          <a:xfrm>
            <a:off x="6858000" y="0"/>
            <a:ext cx="2293920" cy="685800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7720" cy="57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457200" y="456840"/>
            <a:ext cx="3656160" cy="57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25"/>
          </p:nvPr>
        </p:nvSpPr>
        <p:spPr>
          <a:xfrm>
            <a:off x="839520" y="6365520"/>
            <a:ext cx="2817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sldNum" idx="26"/>
          </p:nvPr>
        </p:nvSpPr>
        <p:spPr>
          <a:xfrm>
            <a:off x="4116240" y="6352920"/>
            <a:ext cx="5320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09E9950-3F94-40FE-B83B-D7356D417E8F}" type="slidenum">
              <a: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2" name=""/>
          <p:cNvSpPr/>
          <p:nvPr/>
        </p:nvSpPr>
        <p:spPr>
          <a:xfrm>
            <a:off x="838080" y="6202440"/>
            <a:ext cx="28209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0" name="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1" name="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2" name="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3" name="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4" name="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w="57240">
            <a:solidFill>
              <a:srgbClr val="ffe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5" name="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6" name="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w="284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7" name="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8" name=""/>
          <p:cNvSpPr/>
          <p:nvPr/>
        </p:nvSpPr>
        <p:spPr>
          <a:xfrm>
            <a:off x="911376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9" name="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0" name="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1" name="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2" name="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3" name="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4" name="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27"/>
          </p:nvPr>
        </p:nvSpPr>
        <p:spPr>
          <a:xfrm>
            <a:off x="9097920" y="222120"/>
            <a:ext cx="228456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8" name=""/>
          <p:cNvSpPr/>
          <p:nvPr/>
        </p:nvSpPr>
        <p:spPr>
          <a:xfrm rot="5400000">
            <a:off x="7078680" y="4181400"/>
            <a:ext cx="36576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sldNum" idx="28"/>
          </p:nvPr>
        </p:nvSpPr>
        <p:spPr>
          <a:xfrm>
            <a:off x="1325160" y="4928760"/>
            <a:ext cx="6080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6993DD7-0B9D-4045-9A3C-F9857141CFE1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7" name="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8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9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0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1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dt" idx="29"/>
          </p:nvPr>
        </p:nvSpPr>
        <p:spPr>
          <a:xfrm>
            <a:off x="8786520" y="267840"/>
            <a:ext cx="20098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sldNum" idx="30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D126D8B-60D2-454B-B7D8-7FC0312E023C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6" name=""/>
          <p:cNvSpPr/>
          <p:nvPr/>
        </p:nvSpPr>
        <p:spPr>
          <a:xfrm rot="5400000">
            <a:off x="6990840" y="3736800"/>
            <a:ext cx="320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4" name="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5" name="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6" name="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7" name="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8" name="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w="57240">
            <a:solidFill>
              <a:srgbClr val="ffe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9" name="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0" name="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w="284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1" name="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2" name="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3" name="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4" name="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5" name="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6" name="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7" name="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8" name=""/>
          <p:cNvSpPr/>
          <p:nvPr/>
        </p:nvSpPr>
        <p:spPr>
          <a:xfrm>
            <a:off x="9097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 type="dt" idx="31"/>
          </p:nvPr>
        </p:nvSpPr>
        <p:spPr>
          <a:xfrm>
            <a:off x="9096120" y="217440"/>
            <a:ext cx="228420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2" name=""/>
          <p:cNvSpPr/>
          <p:nvPr/>
        </p:nvSpPr>
        <p:spPr>
          <a:xfrm rot="5400000">
            <a:off x="7078680" y="4178160"/>
            <a:ext cx="36576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sldNum" idx="32"/>
          </p:nvPr>
        </p:nvSpPr>
        <p:spPr>
          <a:xfrm>
            <a:off x="1339560" y="4928760"/>
            <a:ext cx="6080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BBFB160-303D-4AA8-B867-D81FC6596F1A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1" name="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2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3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4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5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 type="dt" idx="33"/>
          </p:nvPr>
        </p:nvSpPr>
        <p:spPr>
          <a:xfrm>
            <a:off x="8786520" y="267840"/>
            <a:ext cx="20098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 type="sldNum" idx="34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83DC27D-0637-429F-B919-D71853760926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0" name=""/>
          <p:cNvSpPr/>
          <p:nvPr/>
        </p:nvSpPr>
        <p:spPr>
          <a:xfrm rot="5400000">
            <a:off x="6990840" y="3736800"/>
            <a:ext cx="320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8" name="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9" name="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0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1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2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3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 type="dt" idx="35"/>
          </p:nvPr>
        </p:nvSpPr>
        <p:spPr>
          <a:xfrm>
            <a:off x="8786520" y="267840"/>
            <a:ext cx="20098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 type="sldNum" idx="36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CCD4A7F-F9F2-42F4-9E54-90B4122A9409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8" name=""/>
          <p:cNvSpPr/>
          <p:nvPr/>
        </p:nvSpPr>
        <p:spPr>
          <a:xfrm rot="5400000">
            <a:off x="6990840" y="3736800"/>
            <a:ext cx="320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6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7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8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9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0" name="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1" name="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37"/>
          </p:nvPr>
        </p:nvSpPr>
        <p:spPr>
          <a:xfrm>
            <a:off x="8786520" y="267840"/>
            <a:ext cx="20098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sldNum" idx="38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D8A6929-E6E8-43E3-B1E9-4F119737C36C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6" name=""/>
          <p:cNvSpPr/>
          <p:nvPr/>
        </p:nvSpPr>
        <p:spPr>
          <a:xfrm rot="5400000">
            <a:off x="6990840" y="3736800"/>
            <a:ext cx="320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3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44E22B59-5488-403F-B50B-F04B42E04786}" type="slidenum">
              <a: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5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5AE3E5E4-4CAF-447A-8949-93F3B862A8FA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7923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7"/>
          </p:nvPr>
        </p:nvSpPr>
        <p:spPr>
          <a:xfrm>
            <a:off x="5714640" y="6356160"/>
            <a:ext cx="1522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8"/>
          </p:nvPr>
        </p:nvSpPr>
        <p:spPr>
          <a:xfrm>
            <a:off x="7543440" y="6356160"/>
            <a:ext cx="988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447722AB-3558-49FD-8F9D-88E4F6A83E93}" type="slidenum">
              <a: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1ad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8823240" y="0"/>
            <a:ext cx="32076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7720" cy="57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456840"/>
            <a:ext cx="3656160" cy="57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9"/>
          </p:nvPr>
        </p:nvSpPr>
        <p:spPr>
          <a:xfrm>
            <a:off x="7772040" y="6352920"/>
            <a:ext cx="531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EE7105A-6410-450A-8CEF-BBB88BA29FA6}" type="slidenum">
              <a: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dt" idx="10"/>
          </p:nvPr>
        </p:nvSpPr>
        <p:spPr>
          <a:xfrm>
            <a:off x="4876560" y="6365520"/>
            <a:ext cx="2817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"/>
          <p:cNvSpPr/>
          <p:nvPr/>
        </p:nvSpPr>
        <p:spPr>
          <a:xfrm>
            <a:off x="4875120" y="6202440"/>
            <a:ext cx="28209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1"/>
          </p:nvPr>
        </p:nvSpPr>
        <p:spPr>
          <a:xfrm>
            <a:off x="8786520" y="267840"/>
            <a:ext cx="20098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"/>
          <p:cNvSpPr/>
          <p:nvPr/>
        </p:nvSpPr>
        <p:spPr>
          <a:xfrm rot="5400000">
            <a:off x="6990840" y="3736800"/>
            <a:ext cx="320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2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FF72065-21E3-4DAC-9893-EC6B98A4371E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 flipV="1" rot="420000">
            <a:off x="316404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"/>
          <p:cNvSpPr/>
          <p:nvPr/>
        </p:nvSpPr>
        <p:spPr>
          <a:xfrm flipV="1" rot="420000">
            <a:off x="8002080" y="5358960"/>
            <a:ext cx="15588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-9000" y="581400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ebf8"/>
              </a:gs>
              <a:gs pos="100000">
                <a:srgbClr val="0079a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4381560" y="621756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9be5"/>
              </a:gs>
              <a:gs pos="100000">
                <a:srgbClr val="00adb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sldNum" idx="14"/>
          </p:nvPr>
        </p:nvSpPr>
        <p:spPr>
          <a:xfrm>
            <a:off x="8076960" y="6356160"/>
            <a:ext cx="6080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482F64C-EF3B-4BC8-A9BD-29E827DDA429}" type="slidenum">
              <a:rPr b="0" lang="ru-RU" sz="1200" spc="-1" strike="noStrike">
                <a:solidFill>
                  <a:srgbClr val="045c75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16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9A110885-EFE4-4BB3-9A36-228FBCD08678}" type="slidenum">
              <a: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2"/>
          <a:srcRect l="0" t="33333" r="0" b="0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7923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17"/>
          </p:nvPr>
        </p:nvSpPr>
        <p:spPr>
          <a:xfrm>
            <a:off x="5714640" y="6356160"/>
            <a:ext cx="1522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3" name=""/>
          <p:cNvSpPr/>
          <p:nvPr/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sldNum" idx="18"/>
          </p:nvPr>
        </p:nvSpPr>
        <p:spPr>
          <a:xfrm>
            <a:off x="7543440" y="6356160"/>
            <a:ext cx="988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5DB256F8-B1B6-4C39-8706-41F3BD771A5A}" type="slidenum">
              <a: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6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6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6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6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1" name=""/>
          <p:cNvGrpSpPr/>
          <p:nvPr/>
        </p:nvGrpSpPr>
        <p:grpSpPr>
          <a:xfrm>
            <a:off x="0" y="244440"/>
            <a:ext cx="9175680" cy="2455920"/>
            <a:chOff x="0" y="244440"/>
            <a:chExt cx="9175680" cy="2455920"/>
          </a:xfrm>
        </p:grpSpPr>
        <p:pic>
          <p:nvPicPr>
            <p:cNvPr id="872" name="" descr=""/>
            <p:cNvPicPr/>
            <p:nvPr/>
          </p:nvPicPr>
          <p:blipFill>
            <a:blip r:embed="rId2"/>
            <a:stretch/>
          </p:blipFill>
          <p:spPr>
            <a:xfrm>
              <a:off x="0" y="244440"/>
              <a:ext cx="9175680" cy="245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3" name=""/>
            <p:cNvSpPr/>
            <p:nvPr/>
          </p:nvSpPr>
          <p:spPr>
            <a:xfrm>
              <a:off x="0" y="244440"/>
              <a:ext cx="9175680" cy="24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874" name=""/>
          <p:cNvSpPr/>
          <p:nvPr/>
        </p:nvSpPr>
        <p:spPr>
          <a:xfrm>
            <a:off x="1440000" y="2185920"/>
            <a:ext cx="6400800" cy="42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d0d0d"/>
                </a:solidFill>
                <a:latin typeface="Constantia"/>
                <a:ea typeface="Lucida Sans Unicode"/>
              </a:rPr>
              <a:t>Правильные многогранники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d0d0d"/>
                </a:solidFill>
                <a:latin typeface="Constantia"/>
                <a:ea typeface="Lucida Sans Unicode"/>
              </a:rPr>
              <a:t>(Тела Платона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d0d0d"/>
                </a:solidFill>
                <a:latin typeface="Constantia"/>
                <a:ea typeface="Lucida Sans Unicode"/>
              </a:rPr>
              <a:t>Полуправильные многогранники (Архимедовы тела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d0d0d"/>
                </a:solidFill>
                <a:latin typeface="Constantia"/>
                <a:ea typeface="Lucida Sans Unicode"/>
              </a:rPr>
              <a:t>Докладчики: ст. гр. 019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d0d0d"/>
                </a:solidFill>
                <a:latin typeface="Constantia"/>
                <a:ea typeface="Lucida Sans Unicode"/>
              </a:rPr>
              <a:t> </a:t>
            </a:r>
            <a:r>
              <a:rPr b="1" i="1" lang="ru-RU" sz="2600" spc="-1" strike="noStrike">
                <a:solidFill>
                  <a:srgbClr val="0d0d0d"/>
                </a:solidFill>
                <a:latin typeface="Constantia"/>
                <a:ea typeface="Lucida Sans Unicode"/>
              </a:rPr>
              <a:t>Паршиков В. 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d0d0d"/>
                </a:solidFill>
                <a:latin typeface="Constantia"/>
                <a:ea typeface="Lucida Sans Unicode"/>
              </a:rPr>
              <a:t>Маслова Н. В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/>
          <p:nvPr/>
        </p:nvSpPr>
        <p:spPr>
          <a:xfrm>
            <a:off x="533520" y="115920"/>
            <a:ext cx="822960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6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Именно икосаэдр оказался в центре внимания биологов в их спорах относительно формы  вирусов.  Вирус  не  может  быть  совершенно круглым, как считалось ранее. Чтобы установить его  форму,  брали  различные многогранники, направляли на них свет  под  теми  же  углами,  что  и  поток атомов на вирус. Оказалось, что только один многогранник  дает точно  такую же тень - икосаэдр. Его геометрические свойства, о которых говорилось  выше, позволяют экономить  генетическую  информацию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09" name="" descr=""/>
          <p:cNvPicPr/>
          <p:nvPr/>
        </p:nvPicPr>
        <p:blipFill>
          <a:blip r:embed="rId2"/>
          <a:stretch/>
        </p:blipFill>
        <p:spPr>
          <a:xfrm>
            <a:off x="2484360" y="3500280"/>
            <a:ext cx="4327560" cy="318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 fill="hold"/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dur="indefinite" fill="hold">
                      <p:stCondLst>
                        <p:cond delay="indefinite"/>
                      </p:stCondLst>
                      <p:childTnLst>
                        <p:par>
                          <p:cTn id="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4" dur="500" fill="hold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"/>
          <p:cNvSpPr/>
          <p:nvPr/>
        </p:nvSpPr>
        <p:spPr>
          <a:xfrm>
            <a:off x="611280" y="549360"/>
            <a:ext cx="82296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64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Куб передает форму кристаллов поваренной соли NaCl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11" name="" descr=""/>
          <p:cNvPicPr/>
          <p:nvPr/>
        </p:nvPicPr>
        <p:blipFill>
          <a:blip r:embed="rId2"/>
          <a:stretch/>
        </p:blipFill>
        <p:spPr>
          <a:xfrm>
            <a:off x="2419200" y="1989000"/>
            <a:ext cx="4305600" cy="400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 fill="hold"/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dur="indefinite" fill="hold">
                      <p:stCondLst>
                        <p:cond delay="indefinite"/>
                      </p:stCondLst>
                      <p:childTnLst>
                        <p:par>
                          <p:cTn id="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8" dur="500" fill="hold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"/>
          <p:cNvSpPr/>
          <p:nvPr/>
        </p:nvSpPr>
        <p:spPr>
          <a:xfrm>
            <a:off x="611280" y="549360"/>
            <a:ext cx="82296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64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Кристалл  сернистого колчедана FeS имеет форму  додекаэдра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13" name="" descr=""/>
          <p:cNvPicPr/>
          <p:nvPr/>
        </p:nvPicPr>
        <p:blipFill>
          <a:blip r:embed="rId2"/>
          <a:stretch/>
        </p:blipFill>
        <p:spPr>
          <a:xfrm>
            <a:off x="2700360" y="2060640"/>
            <a:ext cx="4236840" cy="364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dur="indefinite" fill="hold">
                      <p:stCondLst>
                        <p:cond delay="indefinite"/>
                      </p:stCondLst>
                      <p:childTnLst>
                        <p:par>
                          <p:cTn id="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 fill="hold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dur="indefinite" fill="hold">
                      <p:stCondLst>
                        <p:cond delay="indefinite"/>
                      </p:stCondLst>
                      <p:childTnLst>
                        <p:par>
                          <p:cTn id="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2" dur="500" fill="hold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"/>
          <p:cNvSpPr/>
          <p:nvPr/>
        </p:nvSpPr>
        <p:spPr>
          <a:xfrm>
            <a:off x="611280" y="549360"/>
            <a:ext cx="82296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64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Бор  -  икосаэдра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15" name="" descr=""/>
          <p:cNvPicPr/>
          <p:nvPr/>
        </p:nvPicPr>
        <p:blipFill>
          <a:blip r:embed="rId2"/>
          <a:stretch/>
        </p:blipFill>
        <p:spPr>
          <a:xfrm>
            <a:off x="2190600" y="1852560"/>
            <a:ext cx="4762800" cy="315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dur="indefinite" fill="hold">
                      <p:stCondLst>
                        <p:cond delay="indefinite"/>
                      </p:stCondLst>
                      <p:childTnLst>
                        <p:par>
                          <p:cTn id="1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 fill="hold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dur="indefinite" fill="hold">
                      <p:stCondLst>
                        <p:cond delay="indefinite"/>
                      </p:stCondLst>
                      <p:childTnLst>
                        <p:par>
                          <p:cTn id="1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6" dur="500" fill="hold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1ad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6" name="" descr=""/>
          <p:cNvPicPr/>
          <p:nvPr/>
        </p:nvPicPr>
        <p:blipFill>
          <a:blip r:embed="rId1"/>
          <a:stretch/>
        </p:blipFill>
        <p:spPr>
          <a:xfrm>
            <a:off x="1503360" y="907920"/>
            <a:ext cx="6408720" cy="5297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dur="indefinite" fill="hold">
                      <p:stCondLst>
                        <p:cond delay="indefinite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 fill="hold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"/>
          <p:cNvSpPr/>
          <p:nvPr/>
        </p:nvSpPr>
        <p:spPr>
          <a:xfrm>
            <a:off x="539640" y="1341360"/>
            <a:ext cx="822960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Эйлером была выведена формула, связывающая число вершин (В), граней (Г) и рёбер (Р) любого выпуклого многогранника простым соотношением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36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В+Г=Р+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push dir="u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dur="indefinite" fill="hold">
                      <p:stCondLst>
                        <p:cond delay="indefinite"/>
                      </p:stCondLst>
                      <p:childTnLst>
                        <p:par>
                          <p:cTn id="1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 fill="hold"/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dur="indefinite" fill="hold">
                      <p:stCondLst>
                        <p:cond delay="indefinite"/>
                      </p:stCondLst>
                      <p:childTnLst>
                        <p:par>
                          <p:cTn id="1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 fill="hold"/>
                                        <p:tgtEl>
                                          <p:spTgt spid="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"/>
          <p:cNvGrpSpPr/>
          <p:nvPr/>
        </p:nvGrpSpPr>
        <p:grpSpPr>
          <a:xfrm>
            <a:off x="969840" y="334800"/>
            <a:ext cx="7759800" cy="1652760"/>
            <a:chOff x="969840" y="334800"/>
            <a:chExt cx="7759800" cy="1652760"/>
          </a:xfrm>
        </p:grpSpPr>
        <p:pic>
          <p:nvPicPr>
            <p:cNvPr id="919" name="" descr=""/>
            <p:cNvPicPr/>
            <p:nvPr/>
          </p:nvPicPr>
          <p:blipFill>
            <a:blip r:embed="rId2"/>
            <a:stretch/>
          </p:blipFill>
          <p:spPr>
            <a:xfrm>
              <a:off x="969840" y="334800"/>
              <a:ext cx="7759800" cy="165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0" name=""/>
            <p:cNvSpPr/>
            <p:nvPr/>
          </p:nvSpPr>
          <p:spPr>
            <a:xfrm>
              <a:off x="969840" y="334800"/>
              <a:ext cx="7759800" cy="165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aphicFrame>
        <p:nvGraphicFramePr>
          <p:cNvPr id="921" name=""/>
          <p:cNvGraphicFramePr/>
          <p:nvPr/>
        </p:nvGraphicFramePr>
        <p:xfrm>
          <a:off x="324000" y="1773360"/>
          <a:ext cx="8507160" cy="3814560"/>
        </p:xfrm>
        <a:graphic>
          <a:graphicData uri="http://schemas.openxmlformats.org/drawingml/2006/table">
            <a:tbl>
              <a:tblPr/>
              <a:tblGrid>
                <a:gridCol w="2127240"/>
                <a:gridCol w="2125440"/>
                <a:gridCol w="2127240"/>
                <a:gridCol w="2127240"/>
              </a:tblGrid>
              <a:tr h="671400">
                <a:tc>
                  <a:txBody>
                    <a:bodyPr tIns="5832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НАЗВАНИЕ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5832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ГРА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5832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РЁБ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5832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ВЕРШИ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62856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 Тетр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2856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 Октаэдр (куб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2892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. Гекс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2856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. Икос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2856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. Додек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/>
          <p:nvPr/>
        </p:nvSpPr>
        <p:spPr>
          <a:xfrm>
            <a:off x="250920" y="1125360"/>
            <a:ext cx="85690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олуправильные многогранники или архимедовы тела — выпуклые многогранники, обладающие двумя свойствами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Все грани являются правильными многоугольниками двух или более типов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Для любой пары вершин существует симметрия многогранника (то есть движение переводящее многогранник в себя) переводящая одну вершину в другую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УСЕЧЕННЫЙ ГЕКСАЭДР (КУБ)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4" name="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25" name="" descr=""/>
          <p:cNvPicPr/>
          <p:nvPr/>
        </p:nvPicPr>
        <p:blipFill>
          <a:blip r:embed="rId1"/>
          <a:stretch/>
        </p:blipFill>
        <p:spPr>
          <a:xfrm>
            <a:off x="2178000" y="1771560"/>
            <a:ext cx="4511880" cy="4483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6" dur="2000" fill="hold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УСЕЧЕННЫЙ ТЕТРАЭДР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7" name="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28" name="" descr=""/>
          <p:cNvPicPr/>
          <p:nvPr/>
        </p:nvPicPr>
        <p:blipFill>
          <a:blip r:embed="rId1"/>
          <a:stretch/>
        </p:blipFill>
        <p:spPr>
          <a:xfrm>
            <a:off x="2124000" y="1773360"/>
            <a:ext cx="4535640" cy="450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5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3" dur="2000" fill="hold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/>
          <p:nvPr/>
        </p:nvSpPr>
        <p:spPr>
          <a:xfrm>
            <a:off x="395280" y="90792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равильный многогранник, или Платоново тело — это выпуклый многогранник с максимально возможной симметрией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Многогранник называется правильным, если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Он выпуклый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Все его грани являются равными правильными многоугольникам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В каждой его вершине сходится одинаковое число рёбер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УСЕЧЕННЫЙ ОКТАЭДР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0" name="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31" name="" descr=""/>
          <p:cNvPicPr/>
          <p:nvPr/>
        </p:nvPicPr>
        <p:blipFill>
          <a:blip r:embed="rId1"/>
          <a:stretch/>
        </p:blipFill>
        <p:spPr>
          <a:xfrm>
            <a:off x="2124000" y="1773360"/>
            <a:ext cx="4608720" cy="4464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57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0" dur="2000" fill="hold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УСЕЧЕННЫЙ ДОДЕКАЭДР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3" name="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34" name="" descr=""/>
          <p:cNvPicPr/>
          <p:nvPr/>
        </p:nvPicPr>
        <p:blipFill>
          <a:blip r:embed="rId1"/>
          <a:stretch/>
        </p:blipFill>
        <p:spPr>
          <a:xfrm>
            <a:off x="2124000" y="1773360"/>
            <a:ext cx="4392720" cy="4419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6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7" dur="2000" fill="hold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УСЕЧЕННЫЙ ИКОСАЭДР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6" name="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37" name="" descr=""/>
          <p:cNvPicPr/>
          <p:nvPr/>
        </p:nvPicPr>
        <p:blipFill>
          <a:blip r:embed="rId1"/>
          <a:stretch/>
        </p:blipFill>
        <p:spPr>
          <a:xfrm>
            <a:off x="2124000" y="1773360"/>
            <a:ext cx="4410000" cy="4464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7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4" dur="2000" fill="hold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"/>
          <p:cNvSpPr/>
          <p:nvPr/>
        </p:nvSpPr>
        <p:spPr>
          <a:xfrm>
            <a:off x="484200" y="590400"/>
            <a:ext cx="82296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6b8d"/>
                </a:solidFill>
                <a:latin typeface="Calibri"/>
                <a:ea typeface="Lucida Sans Unicode"/>
              </a:rPr>
              <a:t>Конструирование Архимедова усеченного икосаэдра из Платонова икосаэдр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9" name="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40" name="" descr=""/>
          <p:cNvPicPr/>
          <p:nvPr/>
        </p:nvPicPr>
        <p:blipFill>
          <a:blip r:embed="rId2"/>
          <a:stretch/>
        </p:blipFill>
        <p:spPr>
          <a:xfrm>
            <a:off x="395280" y="2205000"/>
            <a:ext cx="8318520" cy="2592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7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 fill="hold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4f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"/>
          <p:cNvSpPr/>
          <p:nvPr/>
        </p:nvSpPr>
        <p:spPr>
          <a:xfrm>
            <a:off x="457200" y="279360"/>
            <a:ext cx="8229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КВАЗИПРАВИЛЬНЫЕ МНОГОГРАННИКИ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ЧАСТИЦА «КВАЗИ» ПОДЧЕРКИВАЕТ, ЧТО ГРАНИ ЭТИХ МНОГОГРАННИКОВ ПРЕДСТАВЛЯЮТ СОБОЙ ПРАВИЛЬНЫЕ МНОГОУГОЛЬНИКИ ВСЕГО ДВУХ ТИПОВ, ПРИЧЕМ КАЖДАЯ ГРАНЬ ОДНОГО ТИПА ОКРУЖЕНА МНОГОУГОЛЬНИКАМИ ДРУГОГО ТИПА. ЭТИ ДВА ТЕЛА НОСЯТ НАЗВАНИЕ                  РОМБОКУБООКТАЭДРОМ                      И                        ИКОСОДОДЕКАЭДРОМ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2" name=""/>
          <p:cNvSpPr/>
          <p:nvPr/>
        </p:nvSpPr>
        <p:spPr>
          <a:xfrm>
            <a:off x="457200" y="2781360"/>
            <a:ext cx="8229600" cy="36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43" name="" descr=""/>
          <p:cNvPicPr/>
          <p:nvPr/>
        </p:nvPicPr>
        <p:blipFill>
          <a:blip r:embed="rId1"/>
          <a:stretch/>
        </p:blipFill>
        <p:spPr>
          <a:xfrm>
            <a:off x="468360" y="271944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944" name="" descr=""/>
          <p:cNvPicPr/>
          <p:nvPr/>
        </p:nvPicPr>
        <p:blipFill>
          <a:blip r:embed="rId2"/>
          <a:stretch/>
        </p:blipFill>
        <p:spPr>
          <a:xfrm>
            <a:off x="4932360" y="2700360"/>
            <a:ext cx="3781440" cy="37814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5" name=""/>
          <p:cNvGrpSpPr/>
          <p:nvPr/>
        </p:nvGrpSpPr>
        <p:grpSpPr>
          <a:xfrm>
            <a:off x="450720" y="274680"/>
            <a:ext cx="8315280" cy="1146240"/>
            <a:chOff x="450720" y="274680"/>
            <a:chExt cx="8315280" cy="1146240"/>
          </a:xfrm>
        </p:grpSpPr>
        <p:pic>
          <p:nvPicPr>
            <p:cNvPr id="946" name="" descr=""/>
            <p:cNvPicPr/>
            <p:nvPr/>
          </p:nvPicPr>
          <p:blipFill>
            <a:blip r:embed="rId1"/>
            <a:stretch/>
          </p:blipFill>
          <p:spPr>
            <a:xfrm>
              <a:off x="450720" y="274680"/>
              <a:ext cx="831528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"/>
            <p:cNvSpPr/>
            <p:nvPr/>
          </p:nvSpPr>
          <p:spPr>
            <a:xfrm>
              <a:off x="450720" y="274680"/>
              <a:ext cx="8315280" cy="11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948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49" name="" descr=""/>
          <p:cNvPicPr/>
          <p:nvPr/>
        </p:nvPicPr>
        <p:blipFill>
          <a:blip r:embed="rId2"/>
          <a:stretch/>
        </p:blipFill>
        <p:spPr>
          <a:xfrm>
            <a:off x="324000" y="1773360"/>
            <a:ext cx="4222440" cy="4195800"/>
          </a:xfrm>
          <a:prstGeom prst="rect">
            <a:avLst/>
          </a:prstGeom>
          <a:ln w="0">
            <a:noFill/>
          </a:ln>
        </p:spPr>
      </p:pic>
      <p:pic>
        <p:nvPicPr>
          <p:cNvPr id="950" name="" descr=""/>
          <p:cNvPicPr/>
          <p:nvPr/>
        </p:nvPicPr>
        <p:blipFill>
          <a:blip r:embed="rId3"/>
          <a:stretch/>
        </p:blipFill>
        <p:spPr>
          <a:xfrm>
            <a:off x="4546440" y="1773360"/>
            <a:ext cx="4183200" cy="4195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/>
          <p:nvPr/>
        </p:nvSpPr>
        <p:spPr>
          <a:xfrm>
            <a:off x="431640" y="115920"/>
            <a:ext cx="822960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   </a:t>
            </a:r>
            <a:r>
              <a:rPr b="0" lang="ru-RU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Существуют две так называемые «курносые» модификации – одна для куба (курносый куб), </a:t>
            </a:r>
            <a:br>
              <a:rPr sz="2800"/>
            </a:br>
            <a:r>
              <a:rPr b="0" lang="ru-RU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другая – для додекаэдра (курносый додекаэдр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2" name=""/>
          <p:cNvSpPr/>
          <p:nvPr/>
        </p:nvSpPr>
        <p:spPr>
          <a:xfrm>
            <a:off x="457200" y="2565360"/>
            <a:ext cx="8229600" cy="39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53" name="" descr=""/>
          <p:cNvPicPr/>
          <p:nvPr/>
        </p:nvPicPr>
        <p:blipFill>
          <a:blip r:embed="rId1"/>
          <a:stretch/>
        </p:blipFill>
        <p:spPr>
          <a:xfrm>
            <a:off x="539640" y="2276640"/>
            <a:ext cx="4006800" cy="4006800"/>
          </a:xfrm>
          <a:prstGeom prst="rect">
            <a:avLst/>
          </a:prstGeom>
          <a:ln w="0">
            <a:noFill/>
          </a:ln>
        </p:spPr>
      </p:pic>
      <p:pic>
        <p:nvPicPr>
          <p:cNvPr id="954" name="" descr=""/>
          <p:cNvPicPr/>
          <p:nvPr/>
        </p:nvPicPr>
        <p:blipFill>
          <a:blip r:embed="rId2"/>
          <a:stretch/>
        </p:blipFill>
        <p:spPr>
          <a:xfrm>
            <a:off x="4546440" y="2276640"/>
            <a:ext cx="4007160" cy="4006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5" name=""/>
          <p:cNvGrpSpPr/>
          <p:nvPr/>
        </p:nvGrpSpPr>
        <p:grpSpPr>
          <a:xfrm>
            <a:off x="682560" y="-208080"/>
            <a:ext cx="7759800" cy="1549440"/>
            <a:chOff x="682560" y="-208080"/>
            <a:chExt cx="7759800" cy="1549440"/>
          </a:xfrm>
        </p:grpSpPr>
        <p:pic>
          <p:nvPicPr>
            <p:cNvPr id="956" name="" descr=""/>
            <p:cNvPicPr/>
            <p:nvPr/>
          </p:nvPicPr>
          <p:blipFill>
            <a:blip r:embed="rId2"/>
            <a:stretch/>
          </p:blipFill>
          <p:spPr>
            <a:xfrm>
              <a:off x="682560" y="-208080"/>
              <a:ext cx="7759800" cy="15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7" name=""/>
            <p:cNvSpPr/>
            <p:nvPr/>
          </p:nvSpPr>
          <p:spPr>
            <a:xfrm>
              <a:off x="682560" y="-208080"/>
              <a:ext cx="7759800" cy="15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aphicFrame>
        <p:nvGraphicFramePr>
          <p:cNvPr id="958" name=""/>
          <p:cNvGraphicFramePr/>
          <p:nvPr/>
        </p:nvGraphicFramePr>
        <p:xfrm>
          <a:off x="468360" y="765000"/>
          <a:ext cx="8066160" cy="6216480"/>
        </p:xfrm>
        <a:graphic>
          <a:graphicData uri="http://schemas.openxmlformats.org/drawingml/2006/table">
            <a:tbl>
              <a:tblPr/>
              <a:tblGrid>
                <a:gridCol w="3506760"/>
                <a:gridCol w="1530360"/>
                <a:gridCol w="1467000"/>
                <a:gridCol w="1562040"/>
              </a:tblGrid>
              <a:tr h="36684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НАЗ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ГРА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РЁБ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ВЕРШ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684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 Усеченный тетр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48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 Усеченный окт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84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. Усеченный гекс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720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. Усеченный икос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48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. Усеченный додек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84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. Кубоокт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84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. Икосододек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84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. Ромбокубоокт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3360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. Ромбоусеченный кубоокт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3504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. Ромбоусеченный кубоокт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008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1. Ромбоусеченный икосододек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48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. Курносый к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008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3.Курносый додек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1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"/>
          <p:cNvSpPr/>
          <p:nvPr/>
        </p:nvSpPr>
        <p:spPr>
          <a:xfrm>
            <a:off x="457200" y="692280"/>
            <a:ext cx="8229600" cy="57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Кеплер первым начал изучать так называемые звездчатые многогранники, которые в отличие от Платоновых и Архимедовых тел являются правильными выпуклыми многогранниками. В начале прошлого столетия французский математик и механик Л. Пуансо (1777-1859),  в развитие работ Кеплера открыл существование еще двух видов правильных невыпуклых многогранников. Итак, благодаря работам Кеплера и Пуансо стали известными четыре типа таких фигур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В 1812 г. О. Коши доказал, что других правильных звездчатых многогранников не существует.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60" name="" descr=""/>
          <p:cNvPicPr/>
          <p:nvPr/>
        </p:nvPicPr>
        <p:blipFill>
          <a:blip r:embed="rId1"/>
          <a:stretch/>
        </p:blipFill>
        <p:spPr>
          <a:xfrm>
            <a:off x="2928960" y="2708280"/>
            <a:ext cx="2808360" cy="2763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1ad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" descr=""/>
          <p:cNvPicPr/>
          <p:nvPr/>
        </p:nvPicPr>
        <p:blipFill>
          <a:blip r:embed="rId1"/>
          <a:stretch/>
        </p:blipFill>
        <p:spPr>
          <a:xfrm>
            <a:off x="1908000" y="1989000"/>
            <a:ext cx="4400640" cy="3810240"/>
          </a:xfrm>
          <a:prstGeom prst="rect">
            <a:avLst/>
          </a:prstGeom>
          <a:ln w="0">
            <a:noFill/>
          </a:ln>
        </p:spPr>
      </p:pic>
      <p:grpSp>
        <p:nvGrpSpPr>
          <p:cNvPr id="962" name=""/>
          <p:cNvGrpSpPr/>
          <p:nvPr/>
        </p:nvGrpSpPr>
        <p:grpSpPr>
          <a:xfrm>
            <a:off x="969840" y="457200"/>
            <a:ext cx="6729480" cy="957240"/>
            <a:chOff x="969840" y="457200"/>
            <a:chExt cx="6729480" cy="957240"/>
          </a:xfrm>
        </p:grpSpPr>
        <p:pic>
          <p:nvPicPr>
            <p:cNvPr id="963" name="" descr=""/>
            <p:cNvPicPr/>
            <p:nvPr/>
          </p:nvPicPr>
          <p:blipFill>
            <a:blip r:embed="rId2"/>
            <a:stretch/>
          </p:blipFill>
          <p:spPr>
            <a:xfrm>
              <a:off x="969840" y="457200"/>
              <a:ext cx="672948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4" name=""/>
            <p:cNvSpPr/>
            <p:nvPr/>
          </p:nvSpPr>
          <p:spPr>
            <a:xfrm>
              <a:off x="969840" y="457200"/>
              <a:ext cx="6729480" cy="9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"/>
          <p:cNvSpPr/>
          <p:nvPr/>
        </p:nvSpPr>
        <p:spPr>
          <a:xfrm>
            <a:off x="468360" y="260280"/>
            <a:ext cx="8229600" cy="59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364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Существуют только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я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правильных многогранников. Подтвердить  это можно с помощью развертки выпуклого многогранного угла. В  самом  деле,  для того  чтобы  получить  какой-нибудь  правильный  многогранник  согласно  его определению,  в  каждой  вершине  должно  сходиться  одинаковое   количество граней,  каждая  из  которых  является  правильным  многоугольником.   Сумма плоских углов многогранного угла должна  быть  меньше  360˚,  иначе  никакой многогранной поверхности не получится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cover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5" name=""/>
          <p:cNvGrpSpPr/>
          <p:nvPr/>
        </p:nvGrpSpPr>
        <p:grpSpPr>
          <a:xfrm>
            <a:off x="396720" y="334800"/>
            <a:ext cx="8302680" cy="4108680"/>
            <a:chOff x="396720" y="334800"/>
            <a:chExt cx="8302680" cy="4108680"/>
          </a:xfrm>
        </p:grpSpPr>
        <p:pic>
          <p:nvPicPr>
            <p:cNvPr id="966" name="" descr=""/>
            <p:cNvPicPr/>
            <p:nvPr/>
          </p:nvPicPr>
          <p:blipFill>
            <a:blip r:embed="rId2"/>
            <a:stretch/>
          </p:blipFill>
          <p:spPr>
            <a:xfrm>
              <a:off x="396720" y="334800"/>
              <a:ext cx="8302680" cy="410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7" name=""/>
            <p:cNvSpPr/>
            <p:nvPr/>
          </p:nvSpPr>
          <p:spPr>
            <a:xfrm>
              <a:off x="396720" y="334800"/>
              <a:ext cx="8302680" cy="41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968" name=""/>
          <p:cNvGrpSpPr/>
          <p:nvPr/>
        </p:nvGrpSpPr>
        <p:grpSpPr>
          <a:xfrm>
            <a:off x="6450120" y="3181320"/>
            <a:ext cx="779400" cy="757440"/>
            <a:chOff x="6450120" y="3181320"/>
            <a:chExt cx="779400" cy="757440"/>
          </a:xfrm>
        </p:grpSpPr>
        <p:pic>
          <p:nvPicPr>
            <p:cNvPr id="969" name="" descr=""/>
            <p:cNvPicPr/>
            <p:nvPr/>
          </p:nvPicPr>
          <p:blipFill>
            <a:blip r:embed="rId3"/>
            <a:stretch/>
          </p:blipFill>
          <p:spPr>
            <a:xfrm>
              <a:off x="6450120" y="3181320"/>
              <a:ext cx="779400" cy="7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0" name=""/>
            <p:cNvSpPr/>
            <p:nvPr/>
          </p:nvSpPr>
          <p:spPr>
            <a:xfrm>
              <a:off x="6610320" y="3303720"/>
              <a:ext cx="45864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7" name=""/>
          <p:cNvGrpSpPr/>
          <p:nvPr/>
        </p:nvGrpSpPr>
        <p:grpSpPr>
          <a:xfrm>
            <a:off x="396720" y="109440"/>
            <a:ext cx="8472600" cy="1828800"/>
            <a:chOff x="396720" y="109440"/>
            <a:chExt cx="8472600" cy="1828800"/>
          </a:xfrm>
        </p:grpSpPr>
        <p:pic>
          <p:nvPicPr>
            <p:cNvPr id="878" name="" descr=""/>
            <p:cNvPicPr/>
            <p:nvPr/>
          </p:nvPicPr>
          <p:blipFill>
            <a:blip r:embed="rId2"/>
            <a:stretch/>
          </p:blipFill>
          <p:spPr>
            <a:xfrm>
              <a:off x="396720" y="109440"/>
              <a:ext cx="84726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9" name=""/>
            <p:cNvSpPr/>
            <p:nvPr/>
          </p:nvSpPr>
          <p:spPr>
            <a:xfrm>
              <a:off x="396720" y="109440"/>
              <a:ext cx="847260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880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01760"/>
                <a:tab algn="l" pos="1316160"/>
                <a:tab algn="l" pos="2230560"/>
                <a:tab algn="l" pos="3144960"/>
                <a:tab algn="l" pos="4059360"/>
                <a:tab algn="l" pos="4973760"/>
                <a:tab algn="l" pos="5888160"/>
                <a:tab algn="l" pos="6802560"/>
                <a:tab algn="l" pos="7716960"/>
                <a:tab algn="l" pos="8631360"/>
                <a:tab algn="l" pos="95457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01760"/>
                <a:tab algn="l" pos="1316160"/>
                <a:tab algn="l" pos="2230560"/>
                <a:tab algn="l" pos="3144960"/>
                <a:tab algn="l" pos="4059360"/>
                <a:tab algn="l" pos="4973760"/>
                <a:tab algn="l" pos="5888160"/>
                <a:tab algn="l" pos="6802560"/>
                <a:tab algn="l" pos="7716960"/>
                <a:tab algn="l" pos="8631360"/>
                <a:tab algn="l" pos="95457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01760"/>
                <a:tab algn="l" pos="1316160"/>
                <a:tab algn="l" pos="2230560"/>
                <a:tab algn="l" pos="3144960"/>
                <a:tab algn="l" pos="4059360"/>
                <a:tab algn="l" pos="4973760"/>
                <a:tab algn="l" pos="5888160"/>
                <a:tab algn="l" pos="6802560"/>
                <a:tab algn="l" pos="7716960"/>
                <a:tab algn="l" pos="8631360"/>
                <a:tab algn="l" pos="95457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01760"/>
                <a:tab algn="l" pos="1316160"/>
                <a:tab algn="l" pos="2230560"/>
                <a:tab algn="l" pos="3144960"/>
                <a:tab algn="l" pos="4059360"/>
                <a:tab algn="l" pos="4973760"/>
                <a:tab algn="l" pos="5888160"/>
                <a:tab algn="l" pos="6802560"/>
                <a:tab algn="l" pos="7716960"/>
                <a:tab algn="l" pos="8631360"/>
                <a:tab algn="l" pos="954576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                  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01760"/>
                <a:tab algn="l" pos="1316160"/>
                <a:tab algn="l" pos="2230560"/>
                <a:tab algn="l" pos="3144960"/>
                <a:tab algn="l" pos="4059360"/>
                <a:tab algn="l" pos="4973760"/>
                <a:tab algn="l" pos="5888160"/>
                <a:tab algn="l" pos="6802560"/>
                <a:tab algn="l" pos="7716960"/>
                <a:tab algn="l" pos="8631360"/>
                <a:tab algn="l" pos="954576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01760"/>
                <a:tab algn="l" pos="1316160"/>
                <a:tab algn="l" pos="2230560"/>
                <a:tab algn="l" pos="3144960"/>
                <a:tab algn="l" pos="4059360"/>
                <a:tab algn="l" pos="4973760"/>
                <a:tab algn="l" pos="5888160"/>
                <a:tab algn="l" pos="6802560"/>
                <a:tab algn="l" pos="7716960"/>
                <a:tab algn="l" pos="8631360"/>
                <a:tab algn="l" pos="95457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81" name="" descr=""/>
          <p:cNvPicPr/>
          <p:nvPr/>
        </p:nvPicPr>
        <p:blipFill>
          <a:blip r:embed="rId3"/>
          <a:stretch/>
        </p:blipFill>
        <p:spPr>
          <a:xfrm>
            <a:off x="1258920" y="1773360"/>
            <a:ext cx="3316320" cy="2485800"/>
          </a:xfrm>
          <a:prstGeom prst="rect">
            <a:avLst/>
          </a:prstGeom>
          <a:ln w="0">
            <a:noFill/>
          </a:ln>
        </p:spPr>
      </p:pic>
      <p:pic>
        <p:nvPicPr>
          <p:cNvPr id="882" name="" descr=""/>
          <p:cNvPicPr/>
          <p:nvPr/>
        </p:nvPicPr>
        <p:blipFill>
          <a:blip r:embed="rId4"/>
          <a:stretch/>
        </p:blipFill>
        <p:spPr>
          <a:xfrm>
            <a:off x="5219640" y="3319560"/>
            <a:ext cx="2952720" cy="24764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 fill="hold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8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500" fill="hold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" dur="250" autoRev="1" fill="hold"/>
                                        <p:tgtEl>
                                          <p:spTgt spid="8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3" name=""/>
          <p:cNvGrpSpPr/>
          <p:nvPr/>
        </p:nvGrpSpPr>
        <p:grpSpPr>
          <a:xfrm>
            <a:off x="457200" y="274680"/>
            <a:ext cx="8229600" cy="1334880"/>
            <a:chOff x="457200" y="274680"/>
            <a:chExt cx="8229600" cy="1334880"/>
          </a:xfrm>
        </p:grpSpPr>
        <p:pic>
          <p:nvPicPr>
            <p:cNvPr id="884" name="" descr=""/>
            <p:cNvPicPr/>
            <p:nvPr/>
          </p:nvPicPr>
          <p:blipFill>
            <a:blip r:embed="rId2"/>
            <a:stretch/>
          </p:blipFill>
          <p:spPr>
            <a:xfrm>
              <a:off x="457200" y="274680"/>
              <a:ext cx="822960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5" name=""/>
            <p:cNvSpPr/>
            <p:nvPr/>
          </p:nvSpPr>
          <p:spPr>
            <a:xfrm>
              <a:off x="457200" y="274680"/>
              <a:ext cx="8229600" cy="13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886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87" name="" descr=""/>
          <p:cNvPicPr/>
          <p:nvPr/>
        </p:nvPicPr>
        <p:blipFill>
          <a:blip r:embed="rId3"/>
          <a:stretch/>
        </p:blipFill>
        <p:spPr>
          <a:xfrm>
            <a:off x="1187280" y="1628640"/>
            <a:ext cx="3235320" cy="2427480"/>
          </a:xfrm>
          <a:prstGeom prst="rect">
            <a:avLst/>
          </a:prstGeom>
          <a:ln w="0">
            <a:noFill/>
          </a:ln>
        </p:spPr>
      </p:pic>
      <p:pic>
        <p:nvPicPr>
          <p:cNvPr id="888" name="" descr=""/>
          <p:cNvPicPr/>
          <p:nvPr/>
        </p:nvPicPr>
        <p:blipFill>
          <a:blip r:embed="rId4"/>
          <a:stretch/>
        </p:blipFill>
        <p:spPr>
          <a:xfrm>
            <a:off x="4932360" y="3414600"/>
            <a:ext cx="2730600" cy="25480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500" fill="hold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250" autoRev="1" fill="hold"/>
                                        <p:tgtEl>
                                          <p:spTgt spid="8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500" fill="hold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250" autoRev="1" fill="hold"/>
                                        <p:tgtEl>
                                          <p:spTgt spid="8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9" name=""/>
          <p:cNvGrpSpPr/>
          <p:nvPr/>
        </p:nvGrpSpPr>
        <p:grpSpPr>
          <a:xfrm>
            <a:off x="457200" y="274680"/>
            <a:ext cx="8229600" cy="1334880"/>
            <a:chOff x="457200" y="274680"/>
            <a:chExt cx="8229600" cy="1334880"/>
          </a:xfrm>
        </p:grpSpPr>
        <p:pic>
          <p:nvPicPr>
            <p:cNvPr id="890" name="" descr=""/>
            <p:cNvPicPr/>
            <p:nvPr/>
          </p:nvPicPr>
          <p:blipFill>
            <a:blip r:embed="rId2"/>
            <a:stretch/>
          </p:blipFill>
          <p:spPr>
            <a:xfrm>
              <a:off x="457200" y="274680"/>
              <a:ext cx="822960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1" name=""/>
            <p:cNvSpPr/>
            <p:nvPr/>
          </p:nvSpPr>
          <p:spPr>
            <a:xfrm>
              <a:off x="457200" y="274680"/>
              <a:ext cx="8229600" cy="13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892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93" name="" descr=""/>
          <p:cNvPicPr/>
          <p:nvPr/>
        </p:nvPicPr>
        <p:blipFill>
          <a:blip r:embed="rId3"/>
          <a:stretch/>
        </p:blipFill>
        <p:spPr>
          <a:xfrm>
            <a:off x="1187280" y="1673280"/>
            <a:ext cx="3235320" cy="2427120"/>
          </a:xfrm>
          <a:prstGeom prst="rect">
            <a:avLst/>
          </a:prstGeom>
          <a:ln w="0">
            <a:noFill/>
          </a:ln>
        </p:spPr>
      </p:pic>
      <p:pic>
        <p:nvPicPr>
          <p:cNvPr id="894" name="" descr=""/>
          <p:cNvPicPr/>
          <p:nvPr/>
        </p:nvPicPr>
        <p:blipFill>
          <a:blip r:embed="rId4"/>
          <a:stretch/>
        </p:blipFill>
        <p:spPr>
          <a:xfrm>
            <a:off x="4776840" y="3573360"/>
            <a:ext cx="3395520" cy="2544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500" fill="hold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250" autoRev="1" fill="hold"/>
                                        <p:tgtEl>
                                          <p:spTgt spid="8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500" fill="hold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" dur="250" autoRev="1" fill="hold"/>
                                        <p:tgtEl>
                                          <p:spTgt spid="8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5" name=""/>
          <p:cNvGrpSpPr/>
          <p:nvPr/>
        </p:nvGrpSpPr>
        <p:grpSpPr>
          <a:xfrm>
            <a:off x="457200" y="274680"/>
            <a:ext cx="8229600" cy="1334880"/>
            <a:chOff x="457200" y="274680"/>
            <a:chExt cx="8229600" cy="1334880"/>
          </a:xfrm>
        </p:grpSpPr>
        <p:pic>
          <p:nvPicPr>
            <p:cNvPr id="896" name="" descr=""/>
            <p:cNvPicPr/>
            <p:nvPr/>
          </p:nvPicPr>
          <p:blipFill>
            <a:blip r:embed="rId2"/>
            <a:stretch/>
          </p:blipFill>
          <p:spPr>
            <a:xfrm>
              <a:off x="457200" y="274680"/>
              <a:ext cx="822960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"/>
            <p:cNvSpPr/>
            <p:nvPr/>
          </p:nvSpPr>
          <p:spPr>
            <a:xfrm>
              <a:off x="457200" y="274680"/>
              <a:ext cx="8229600" cy="13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898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99" name="" descr=""/>
          <p:cNvPicPr/>
          <p:nvPr/>
        </p:nvPicPr>
        <p:blipFill>
          <a:blip r:embed="rId3"/>
          <a:stretch/>
        </p:blipFill>
        <p:spPr>
          <a:xfrm>
            <a:off x="1187280" y="1628640"/>
            <a:ext cx="3240360" cy="2430720"/>
          </a:xfrm>
          <a:prstGeom prst="rect">
            <a:avLst/>
          </a:prstGeom>
          <a:ln w="0">
            <a:noFill/>
          </a:ln>
        </p:spPr>
      </p:pic>
      <p:pic>
        <p:nvPicPr>
          <p:cNvPr id="900" name="" descr=""/>
          <p:cNvPicPr/>
          <p:nvPr/>
        </p:nvPicPr>
        <p:blipFill>
          <a:blip r:embed="rId4"/>
          <a:stretch/>
        </p:blipFill>
        <p:spPr>
          <a:xfrm>
            <a:off x="4813200" y="3500280"/>
            <a:ext cx="3294000" cy="2482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500" fill="hold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" dur="250" autoRev="1" fill="hold"/>
                                        <p:tgtEl>
                                          <p:spTgt spid="8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5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500" fill="hold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" dur="250" autoRev="1" fill="hold"/>
                                        <p:tgtEl>
                                          <p:spTgt spid="9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1" name=""/>
          <p:cNvGrpSpPr/>
          <p:nvPr/>
        </p:nvGrpSpPr>
        <p:grpSpPr>
          <a:xfrm>
            <a:off x="457200" y="274680"/>
            <a:ext cx="8229600" cy="1334880"/>
            <a:chOff x="457200" y="274680"/>
            <a:chExt cx="8229600" cy="1334880"/>
          </a:xfrm>
        </p:grpSpPr>
        <p:pic>
          <p:nvPicPr>
            <p:cNvPr id="902" name="" descr=""/>
            <p:cNvPicPr/>
            <p:nvPr/>
          </p:nvPicPr>
          <p:blipFill>
            <a:blip r:embed="rId2"/>
            <a:stretch/>
          </p:blipFill>
          <p:spPr>
            <a:xfrm>
              <a:off x="457200" y="274680"/>
              <a:ext cx="822960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3" name=""/>
            <p:cNvSpPr/>
            <p:nvPr/>
          </p:nvSpPr>
          <p:spPr>
            <a:xfrm>
              <a:off x="457200" y="274680"/>
              <a:ext cx="8229600" cy="13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904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3"/>
          <a:stretch/>
        </p:blipFill>
        <p:spPr>
          <a:xfrm>
            <a:off x="1187280" y="1628640"/>
            <a:ext cx="3264120" cy="24480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4"/>
          <a:stretch/>
        </p:blipFill>
        <p:spPr>
          <a:xfrm>
            <a:off x="5003640" y="3417840"/>
            <a:ext cx="2803680" cy="28036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500" fill="hold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250" autoRev="1" fill="hold"/>
                                        <p:tgtEl>
                                          <p:spTgt spid="9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7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500" fill="hold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250" autoRev="1" fill="hold"/>
                                        <p:tgtEl>
                                          <p:spTgt spid="9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/>
          <p:nvPr/>
        </p:nvSpPr>
        <p:spPr>
          <a:xfrm>
            <a:off x="539640" y="47628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644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13644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13644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земля/вода=воздух/огонь.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6:38:56Z</dcterms:created>
  <dc:creator>Админ</dc:creator>
  <dc:description/>
  <dc:language>en-US</dc:language>
  <cp:lastModifiedBy>Админ</cp:lastModifiedBy>
  <dcterms:modified xsi:type="dcterms:W3CDTF">2011-06-07T08:16:08Z</dcterms:modified>
  <cp:revision>34</cp:revision>
  <dc:subject/>
  <dc:title>Презентация PowerPoint</dc:title>
</cp:coreProperties>
</file>