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A3B1-B086-4CD4-A48E-073000392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7640-A94C-45CF-BD0F-E58AC7D8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EB9D-8E4A-4304-9825-A0B691084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873D-9186-47B5-928F-56346A8DA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9332-D75E-4627-9BF3-D5BFC203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F7D0-2674-4B97-80F8-B74E477E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8150-74AE-4E95-9C9D-70280E03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FDCA-AC39-4367-8B79-B3DC5804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49A7-CC26-4261-9B82-5AEE999C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CA27-F98C-4DBC-9E33-0398C3AB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10C6-13B5-44FD-BBF6-87A2D410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B515-A95F-467B-9E38-47589047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6600-718D-49FA-966B-A5343B2584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C42F8076-5542-416A-B946-1F11EEE8585E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ИНИСТЕРСТВО НАУКИ И ВЫСШЕГО ОБРАЗОВАНИЯ РОССИЙСКОЙ ФЕДЕРАЦИИ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Федеральное государственное бюджетное образовательное учреждение высшего образования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«Рязанский государственный радиотехнический университет имени В.Ф. Уткина»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афедра промышленной электрон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0" y="1557360"/>
            <a:ext cx="91440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br>
              <a:rPr sz="4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 выпускной квалификационной работе</a:t>
            </a: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ма выпускной квалификационной рабо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0" y="4292640"/>
            <a:ext cx="914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учающийся: студент гр. 723М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тров И.С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уководитель: к.т.н., доцент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доров А.А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язань, 201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C68A1798-10FD-484C-BE25-B1DD9C749C6F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ыводы по работ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C7294A81-D28B-4336-9C77-11F144C69E9D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0" y="11160"/>
            <a:ext cx="9144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убликации по работе (для магистров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0" y="981000"/>
            <a:ext cx="9144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пробация результатов работы производилась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2-х конференциях: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Библиографическая ссылка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Библиографическая ссылка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0" y="3716280"/>
            <a:ext cx="9144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зультаты работы были опубликованы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2-х научных статьях: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Библиографическая ссылка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Библиографическая ссылка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DA1B4412-6014-4C76-AAE5-3C2B348F36C2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ктуальность рабо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Заголовок 1"/>
          <p:cNvSpPr/>
          <p:nvPr/>
        </p:nvSpPr>
        <p:spPr>
          <a:xfrm>
            <a:off x="0" y="3357720"/>
            <a:ext cx="9144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учная новизна работы (для магистров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A041A3B9-D042-4E05-B386-2169B0B77766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0" y="0"/>
            <a:ext cx="9144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Цель и задачи работ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CC40EBF7-A102-4B33-8CE4-E6EF2D26581C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0800"/>
            <a:ext cx="91440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оретическая часть (кратко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7D771D88-C90F-4D47-8DDA-B46D6D3E9AC9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счетная часть (кратк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F0C1B684-5379-4577-BB04-5CE0929007A2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Заголовок 1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573114CA-D765-445D-9571-CA36EDF1A5C6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BA358216-718A-46A3-A7FC-0324EF39BC02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33092D9F-8ED7-4A56-8717-35000BA907BE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19T06:13:54Z</dcterms:created>
  <dc:creator>Пользователь Windows</dc:creator>
  <dc:description/>
  <dc:language>en-US</dc:language>
  <cp:lastModifiedBy>ASUS</cp:lastModifiedBy>
  <dcterms:modified xsi:type="dcterms:W3CDTF">2019-06-20T03:33:41Z</dcterms:modified>
  <cp:revision>23</cp:revision>
  <dc:subject/>
  <dc:title>МИНИСТЕРСТВО НАУКИ И ВЫСШЕГО ОБРАЗОВАНИЯ  РОССИЙСКОЙ ФЕДЕРАЦИИ Федеральное государственное бюджетное образовательное учреждение  высшего образования  «Рязанский государственный радиотехнический университет имени В.Ф. Уткина» Кафедра промышленной электроники</dc:title>
</cp:coreProperties>
</file>