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52.jpeg" ContentType="image/jpeg"/>
  <Override PartName="/ppt/media/image1.png" ContentType="image/png"/>
  <Override PartName="/ppt/media/image51.png" ContentType="image/png"/>
  <Override PartName="/ppt/media/image46.jpeg" ContentType="image/jpe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7.png" ContentType="image/png"/>
  <Override PartName="/ppt/media/image34.gif" ContentType="image/gif"/>
  <Override PartName="/ppt/media/image35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47.png" ContentType="image/png"/>
  <Override PartName="/ppt/media/image10.png" ContentType="image/png"/>
  <Override PartName="/ppt/media/image39.png" ContentType="image/png"/>
  <Override PartName="/ppt/media/image9.png" ContentType="image/png"/>
  <Override PartName="/ppt/media/image8.png" ContentType="image/png"/>
  <Override PartName="/ppt/media/image82.jpeg" ContentType="image/jpeg"/>
  <Override PartName="/ppt/media/image58.gif" ContentType="image/gif"/>
  <Override PartName="/ppt/media/image19.png" ContentType="image/png"/>
  <Override PartName="/ppt/media/image21.png" ContentType="image/png"/>
  <Override PartName="/ppt/media/image59.png" ContentType="image/png"/>
  <Override PartName="/ppt/media/image22.png" ContentType="image/png"/>
  <Override PartName="/ppt/media/image28.png" ContentType="image/png"/>
  <Override PartName="/ppt/media/image70.png" ContentType="image/png"/>
  <Override PartName="/ppt/media/image38.jpeg" ContentType="image/jpeg"/>
  <Override PartName="/ppt/media/image72.png" ContentType="image/png"/>
  <Override PartName="/ppt/media/image60.png" ContentType="image/png"/>
  <Override PartName="/ppt/media/image62.png" ContentType="image/png"/>
  <Override PartName="/ppt/media/image63.gif" ContentType="image/gif"/>
  <Override PartName="/ppt/media/image66.png" ContentType="image/png"/>
  <Override PartName="/ppt/media/image64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84.jpeg" ContentType="image/jpeg"/>
  <Override PartName="/ppt/media/image78.png" ContentType="image/png"/>
  <Override PartName="/ppt/media/image77.png" ContentType="image/png"/>
  <Override PartName="/ppt/media/image67.png" ContentType="image/png"/>
  <Override PartName="/ppt/media/image79.png" ContentType="image/png"/>
  <Override PartName="/ppt/media/image76.gif" ContentType="image/gif"/>
  <Override PartName="/ppt/media/image14.png" ContentType="image/png"/>
  <Override PartName="/ppt/media/image2.png" ContentType="image/png"/>
  <Override PartName="/ppt/media/image32.png" ContentType="image/png"/>
  <Override PartName="/ppt/media/image74.jpeg" ContentType="image/jpeg"/>
  <Override PartName="/ppt/media/image75.png" ContentType="image/png"/>
  <Override PartName="/ppt/media/image71.jpeg" ContentType="image/jpeg"/>
  <Override PartName="/ppt/media/image83.jpeg" ContentType="image/jpeg"/>
  <Override PartName="/ppt/media/image68.png" ContentType="image/png"/>
  <Override PartName="/ppt/media/image31.png" ContentType="image/png"/>
  <Override PartName="/ppt/media/image69.gif" ContentType="image/gif"/>
  <Override PartName="/ppt/media/image25.png" ContentType="image/png"/>
  <Override PartName="/ppt/media/image26.png" ContentType="image/png"/>
  <Override PartName="/ppt/media/image17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7.jpeg" ContentType="image/jpeg"/>
  <Override PartName="/ppt/media/image81.png" ContentType="image/png"/>
  <Override PartName="/ppt/media/image16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8084-E32E-4B87-845A-C66B1210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B2F8-4628-4DC0-A56B-045378BE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8052-162B-4E78-869B-13112F96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92DA-2CB7-473E-B70D-C7ADA360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A09B-88BB-4A60-90F0-1F091776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0233-7770-4774-91C8-BCF1A5B3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3F9D-F806-47AF-8AA8-6076F654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720C-28A7-406E-8D12-2A31782F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2605-3192-49B6-8B84-2CE18B76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923F-82C6-4998-B746-26ED5616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95A2-9FD0-4F67-AA6B-61E06DDB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42EE-9F54-4C7B-960E-99FFF536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DF37-C7B8-4558-83B8-64D0CE2907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&#1053;&#1072;&#1095;&#1072;&#1083;&#1086;_&#1082;&#1086;&#1086;&#1088;&#1076;&#1080;&#1085;&#1072;&#1090;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png"/><Relationship Id="rId3" Type="http://schemas.openxmlformats.org/officeDocument/2006/relationships/image" Target="../media/image6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8.png"/><Relationship Id="rId3" Type="http://schemas.openxmlformats.org/officeDocument/2006/relationships/image" Target="../media/image69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2.pn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5.png"/><Relationship Id="rId3" Type="http://schemas.openxmlformats.org/officeDocument/2006/relationships/image" Target="../media/image7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4969080" cy="234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692280"/>
            <a:ext cx="477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836640"/>
            <a:ext cx="41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лад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2720" y="450864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72200" y="517680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4160" y="5084640"/>
            <a:ext cx="23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касова Людм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зин Никол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някин Пав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4200" y="6453360"/>
            <a:ext cx="12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язань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-360" y="214200"/>
            <a:ext cx="50720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 строфоиды в декартовой системе координат, где O —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ачало координа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ось абсцисс направлена по лучу OB, ось ординат по лучу OD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прямой строфоиды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строфоиды в полярной системе координа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Параметрическое уравнение строфоид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где . Точка B отстоит от центра координат O на расстоянии равном a=OA. Прямая UV, проведенная через точку B параллельно оси ординат служит асимптотой для обеих ветвей прямой строфоиды. Для косой строфоиды, прямая UV служит асимптотой для нижней ветви и касательной в точке S, причём SB = 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точке O существуют две касательные, которые взаимно перпендикулярны, как для прямой, так и для косой строфои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d186da7c3687a7ade0dcbf99a4d2ca32.png"/>
          <p:cNvPicPr/>
          <p:nvPr/>
        </p:nvPicPr>
        <p:blipFill>
          <a:blip r:embed="rId3"/>
          <a:stretch/>
        </p:blipFill>
        <p:spPr>
          <a:xfrm>
            <a:off x="1785960" y="1357200"/>
            <a:ext cx="1238400" cy="486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424b96fc6ba1d042769bb7676cea29f3.png"/>
          <p:cNvPicPr/>
          <p:nvPr/>
        </p:nvPicPr>
        <p:blipFill>
          <a:blip r:embed="rId4"/>
          <a:stretch/>
        </p:blipFill>
        <p:spPr>
          <a:xfrm>
            <a:off x="1785960" y="2286000"/>
            <a:ext cx="112392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8d59b0e7b5591ddb96a55488a0386d76.png"/>
          <p:cNvPicPr/>
          <p:nvPr/>
        </p:nvPicPr>
        <p:blipFill>
          <a:blip r:embed="rId5"/>
          <a:stretch/>
        </p:blipFill>
        <p:spPr>
          <a:xfrm>
            <a:off x="500040" y="3143160"/>
            <a:ext cx="1257480" cy="486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7c89582a1b35e6840169631b3db8b14d.png"/>
          <p:cNvPicPr/>
          <p:nvPr/>
        </p:nvPicPr>
        <p:blipFill>
          <a:blip r:embed="rId6"/>
          <a:stretch/>
        </p:blipFill>
        <p:spPr>
          <a:xfrm>
            <a:off x="2071800" y="3143160"/>
            <a:ext cx="1352520" cy="486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d85164e467997ad9ff60887f7c0c2d42.png"/>
          <p:cNvPicPr/>
          <p:nvPr/>
        </p:nvPicPr>
        <p:blipFill>
          <a:blip r:embed="rId7"/>
          <a:stretch/>
        </p:blipFill>
        <p:spPr>
          <a:xfrm>
            <a:off x="3786120" y="3286080"/>
            <a:ext cx="1076400" cy="2523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Strophoid.png"/>
          <p:cNvPicPr/>
          <p:nvPr/>
        </p:nvPicPr>
        <p:blipFill>
          <a:blip r:embed="rId8"/>
          <a:stretch/>
        </p:blipFill>
        <p:spPr>
          <a:xfrm>
            <a:off x="5143680" y="285840"/>
            <a:ext cx="3643200" cy="4857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5000760" y="52862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ис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ям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Strophoid_oblique.png"/>
          <p:cNvPicPr/>
          <p:nvPr/>
        </p:nvPicPr>
        <p:blipFill>
          <a:blip r:embed="rId1"/>
          <a:stretch/>
        </p:blipFill>
        <p:spPr>
          <a:xfrm>
            <a:off x="5000760" y="500040"/>
            <a:ext cx="3643200" cy="4853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5357880" y="55008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с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14200" y="42840"/>
            <a:ext cx="4714920" cy="76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хождение каса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производная                         , то есть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существуют две перпендикулярные касательные, угол наклона которых равен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иус кривиз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0,0) определя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 y' = \sqrt { \frac {a + x}{a - x}} \left(  1 + \frac {ax}{a^2 - x^2} \right) \,\!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285920" y="428760"/>
            <a:ext cx="2266920" cy="50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y' = \pm 1"/>
          <p:cNvPicPr/>
          <p:nvPr/>
        </p:nvPicPr>
        <p:blipFill>
          <a:blip r:embed="rId3"/>
          <a:stretch/>
        </p:blipFill>
        <p:spPr>
          <a:xfrm>
            <a:off x="2857680" y="1285920"/>
            <a:ext cx="666720" cy="218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 \pm \frac{\pi}{4}"/>
          <p:cNvPicPr/>
          <p:nvPr/>
        </p:nvPicPr>
        <p:blipFill>
          <a:blip r:embed="rId4"/>
          <a:stretch/>
        </p:blipFill>
        <p:spPr>
          <a:xfrm>
            <a:off x="7918560" y="426960"/>
            <a:ext cx="266760" cy="343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4ffa68e613f3e62b77823fadfe6ebad4.png"/>
          <p:cNvPicPr/>
          <p:nvPr/>
        </p:nvPicPr>
        <p:blipFill>
          <a:blip r:embed="rId5"/>
          <a:stretch/>
        </p:blipFill>
        <p:spPr>
          <a:xfrm>
            <a:off x="714240" y="2714760"/>
            <a:ext cx="334332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0"/>
          <p:cNvSpPr/>
          <p:nvPr/>
        </p:nvSpPr>
        <p:spPr>
          <a:xfrm>
            <a:off x="285840" y="3357720"/>
            <a:ext cx="457200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ъём тела вра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бъём (V1) тела, образованного при вращении дуги OM1A вокруг оси абсцисс, рассчитыва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1" descr="960d66afff28a72fa76823133ba9c3cb.png"/>
          <p:cNvPicPr/>
          <p:nvPr/>
        </p:nvPicPr>
        <p:blipFill>
          <a:blip r:embed="rId6"/>
          <a:stretch/>
        </p:blipFill>
        <p:spPr>
          <a:xfrm>
            <a:off x="1357200" y="4214880"/>
            <a:ext cx="2297160" cy="5713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252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 b  \Rightarrow\; a"/>
          <p:cNvPicPr/>
          <p:nvPr/>
        </p:nvPicPr>
        <p:blipFill>
          <a:blip r:embed="rId7"/>
          <a:stretch/>
        </p:blipFill>
        <p:spPr>
          <a:xfrm>
            <a:off x="714240" y="5143680"/>
            <a:ext cx="862200" cy="244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 \ln {\left(a - b \right)}  \Rightarrow\; - \infty"/>
          <p:cNvPicPr/>
          <p:nvPr/>
        </p:nvPicPr>
        <p:blipFill>
          <a:blip r:embed="rId8"/>
          <a:stretch/>
        </p:blipFill>
        <p:spPr>
          <a:xfrm>
            <a:off x="2000160" y="5072040"/>
            <a:ext cx="1476360" cy="29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 V_2  \Rightarrow\; \infty"/>
          <p:cNvPicPr/>
          <p:nvPr/>
        </p:nvPicPr>
        <p:blipFill>
          <a:blip r:embed="rId9"/>
          <a:stretch/>
        </p:blipFill>
        <p:spPr>
          <a:xfrm>
            <a:off x="1143000" y="5715000"/>
            <a:ext cx="878040" cy="2142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6"/>
          <p:cNvSpPr/>
          <p:nvPr/>
        </p:nvSpPr>
        <p:spPr>
          <a:xfrm>
            <a:off x="0" y="4929120"/>
            <a:ext cx="47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то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Кардио́ида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(греч. καρδία — сердце, греч. εἶδος — вид) — плоская линия, которая описывается фиксированной точкой окружности, катящейся по неподвижной окружности с таким же радиусом. Получила своё название из-за схожести своих очертаний со стилизованным изображением серд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Прямоугольник 3" descr=""/>
          <p:cNvPicPr/>
          <p:nvPr/>
        </p:nvPicPr>
        <p:blipFill>
          <a:blip r:embed="rId2"/>
          <a:stretch/>
        </p:blipFill>
        <p:spPr>
          <a:xfrm>
            <a:off x="554040" y="0"/>
            <a:ext cx="8589960" cy="1476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Cardioid30.gif"/>
          <p:cNvPicPr/>
          <p:nvPr/>
        </p:nvPicPr>
        <p:blipFill>
          <a:blip r:embed="rId3"/>
          <a:stretch/>
        </p:blipFill>
        <p:spPr>
          <a:xfrm>
            <a:off x="5500800" y="228600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6840" y="142920"/>
            <a:ext cx="49719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 (параметрическая запись)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sin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стор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рдиоида впервые встречается в трудах французского учёного Луи Карр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Louis Carrè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05 г.). Название кривой дал Джованни Сальвемини ди Кастиллон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Giovanni Salvemini di Castiglion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упоминается также как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ohann Francesco Melchiore Salvemini Castillon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 в 1741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«Спрямление», то есть вычисление длины кривой, выполнил Ла Ир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Philippe de La Hir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, который открыл кривую независимо, в 1708 г. Также независимо описал кардиоиду голландский математик Й. Коерсма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. Koersm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41 г.). В дальнейшем к кривой проявляли интерес многие видные математики XVIII-XIX ве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0567ead3980f352034a5b893a9bc3bda.png"/>
          <p:cNvPicPr/>
          <p:nvPr/>
        </p:nvPicPr>
        <p:blipFill>
          <a:blip r:embed="rId2"/>
          <a:stretch/>
        </p:blipFill>
        <p:spPr>
          <a:xfrm>
            <a:off x="468360" y="105264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e46fffbaecabf7c94fff01352af36ce5.png"/>
          <p:cNvPicPr/>
          <p:nvPr/>
        </p:nvPicPr>
        <p:blipFill>
          <a:blip r:embed="rId3"/>
          <a:stretch/>
        </p:blipFill>
        <p:spPr>
          <a:xfrm>
            <a:off x="928800" y="3191040"/>
            <a:ext cx="2000160" cy="309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2-01.gif"/>
          <p:cNvPicPr/>
          <p:nvPr/>
        </p:nvPicPr>
        <p:blipFill>
          <a:blip r:embed="rId4"/>
          <a:stretch/>
        </p:blipFill>
        <p:spPr>
          <a:xfrm>
            <a:off x="5715000" y="857160"/>
            <a:ext cx="2957400" cy="22147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-1.jpg"/>
          <p:cNvPicPr/>
          <p:nvPr/>
        </p:nvPicPr>
        <p:blipFill>
          <a:blip r:embed="rId5"/>
          <a:stretch/>
        </p:blipFill>
        <p:spPr>
          <a:xfrm>
            <a:off x="5643720" y="3571920"/>
            <a:ext cx="2989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14200" y="1285920"/>
            <a:ext cx="5114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Лемниска́та Берну́лл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от лат. lemniscatus, буквально — украшенный лентами)— плоская алгебраическая кривая. Определяется как геометрическое место точек, произведение расстояний от которых до двух заданных точек (фокусов) постоянно и равно квадрату половины расстояния между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Лемниската по форме напоминает восьмёрку или символ бес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811080" y="66600"/>
            <a:ext cx="7839360" cy="11462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jakob_bernoulli.jpg"/>
          <p:cNvPicPr/>
          <p:nvPr/>
        </p:nvPicPr>
        <p:blipFill>
          <a:blip r:embed="rId3"/>
          <a:stretch/>
        </p:blipFill>
        <p:spPr>
          <a:xfrm>
            <a:off x="5786280" y="1285920"/>
            <a:ext cx="2638440" cy="40003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5786280" y="550080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коб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800px-Lemniscate_of_Bernoulli_svg.png"/>
          <p:cNvPicPr/>
          <p:nvPr/>
        </p:nvPicPr>
        <p:blipFill>
          <a:blip r:embed="rId2"/>
          <a:stretch/>
        </p:blipFill>
        <p:spPr>
          <a:xfrm>
            <a:off x="785880" y="428760"/>
            <a:ext cx="7215120" cy="3074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2214720" y="3714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емниската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714240" y="4357800"/>
            <a:ext cx="792972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ссмотрим простейший случай: если расстояние между фокусами 2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расположены они на оси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X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и начало координат делит отрезок между ними пополам, то следующие уравнения задают лемнискат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прямоугольных координатах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араметрическое уравнение в прямоугольной системе:                            г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1e1db6b1e43b317e2acee76686a9e497.png"/>
          <p:cNvPicPr/>
          <p:nvPr/>
        </p:nvPicPr>
        <p:blipFill>
          <a:blip r:embed="rId3"/>
          <a:stretch/>
        </p:blipFill>
        <p:spPr>
          <a:xfrm>
            <a:off x="3643200" y="5214960"/>
            <a:ext cx="2928960" cy="2858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c15cf78570a837b1217ddd96d5a2a4d7.png"/>
          <p:cNvPicPr/>
          <p:nvPr/>
        </p:nvPicPr>
        <p:blipFill>
          <a:blip r:embed="rId4"/>
          <a:stretch/>
        </p:blipFill>
        <p:spPr>
          <a:xfrm>
            <a:off x="5572080" y="5715000"/>
            <a:ext cx="1152720" cy="5810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1e9306e34dd52212367c3f4ac64c3a33.png"/>
          <p:cNvPicPr/>
          <p:nvPr/>
        </p:nvPicPr>
        <p:blipFill>
          <a:blip r:embed="rId5"/>
          <a:stretch/>
        </p:blipFill>
        <p:spPr>
          <a:xfrm>
            <a:off x="7143840" y="5715000"/>
            <a:ext cx="13050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86120" y="856800"/>
            <a:ext cx="51436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вал Кассин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— геометрическое место точек, произведение расстояний от которых до двух заданных точек (фокусов) постоянно и равно квадрату некоторого числа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м случаем овала Кассини при фокусном расстоянии равном 2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является Лемниската Бернулли. Сам овал является лемнискатой с двумя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ривая была придумана астрономом Джованни Кассини. Он ошибочно считал, что она точнее определяет орбиту Земли, чем эллип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отя эту линию называют овалом Кассини, она не всегда оваль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Прямоугольник 3" descr=""/>
          <p:cNvPicPr/>
          <p:nvPr/>
        </p:nvPicPr>
        <p:blipFill>
          <a:blip r:embed="rId2"/>
          <a:stretch/>
        </p:blipFill>
        <p:spPr>
          <a:xfrm>
            <a:off x="2090880" y="-212760"/>
            <a:ext cx="5163840" cy="11397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kassini-dzhovanni-domeniko.jpg"/>
          <p:cNvPicPr/>
          <p:nvPr/>
        </p:nvPicPr>
        <p:blipFill>
          <a:blip r:embed="rId3"/>
          <a:stretch/>
        </p:blipFill>
        <p:spPr>
          <a:xfrm>
            <a:off x="357120" y="928800"/>
            <a:ext cx="3443400" cy="47862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642960" y="58579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жованни Касс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3" descr="800px-Line_of_Cassini_svg.png"/>
          <p:cNvPicPr/>
          <p:nvPr/>
        </p:nvPicPr>
        <p:blipFill>
          <a:blip r:embed="rId2"/>
          <a:stretch/>
        </p:blipFill>
        <p:spPr>
          <a:xfrm>
            <a:off x="4214880" y="1857240"/>
            <a:ext cx="4338720" cy="29829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5429160" y="51436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ал Касс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0" y="986760"/>
            <a:ext cx="428616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Расстояние между фокусами 2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прямоугольных координатах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вное уравнение в прямоугольных координата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олярной системе координ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\textstyle (x^2+y^2)^2-2c^2(x^2-y^2)=a^4-c^4"/>
          <p:cNvPicPr/>
          <p:nvPr/>
        </p:nvPicPr>
        <p:blipFill>
          <a:blip r:embed="rId3"/>
          <a:stretch/>
        </p:blipFill>
        <p:spPr>
          <a:xfrm>
            <a:off x="214200" y="2286000"/>
            <a:ext cx="3754440" cy="2811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03228df483c211e1aed62a4e8e7bc1b9.png"/>
          <p:cNvPicPr/>
          <p:nvPr/>
        </p:nvPicPr>
        <p:blipFill>
          <a:blip r:embed="rId4"/>
          <a:stretch/>
        </p:blipFill>
        <p:spPr>
          <a:xfrm>
            <a:off x="571680" y="3500280"/>
            <a:ext cx="2662200" cy="428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\rho^4-2c^2\rho^2\cos{2\varphi}=a^4-c^4"/>
          <p:cNvPicPr/>
          <p:nvPr/>
        </p:nvPicPr>
        <p:blipFill>
          <a:blip r:embed="rId5"/>
          <a:stretch/>
        </p:blipFill>
        <p:spPr>
          <a:xfrm>
            <a:off x="714240" y="4857840"/>
            <a:ext cx="2571840" cy="366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3"/>
          <p:cNvSpPr/>
          <p:nvPr/>
        </p:nvSpPr>
        <p:spPr>
          <a:xfrm>
            <a:off x="3643200" y="5716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13840" y="1285560"/>
            <a:ext cx="5072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Улитка Паскаля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― плоская алгебраическая кривая 4-го порядка; подера окружности, конхоида окружности относительно точки на окружности, частный случай Декартова овала, она также является эпитрохоидой. Названа по имени Этьена Паскаля (отца Блеза Паскаля), впервые рассмотревшего её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Три улитки паскаля, конхоиды чёрной окружности: зелёная , красная (кардиоида) и синяя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Прямоугольник 3" descr=""/>
          <p:cNvPicPr/>
          <p:nvPr/>
        </p:nvPicPr>
        <p:blipFill>
          <a:blip r:embed="rId2"/>
          <a:stretch/>
        </p:blipFill>
        <p:spPr>
          <a:xfrm>
            <a:off x="1731960" y="66600"/>
            <a:ext cx="5649840" cy="1146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bezymyannyy5_width_200.jpg"/>
          <p:cNvPicPr/>
          <p:nvPr/>
        </p:nvPicPr>
        <p:blipFill>
          <a:blip r:embed="rId3"/>
          <a:stretch/>
        </p:blipFill>
        <p:spPr>
          <a:xfrm>
            <a:off x="5429160" y="1357200"/>
            <a:ext cx="3372120" cy="43578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857920" y="5929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ьен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3" descr="Pascal_lima%C3%A7ons.png"/>
          <p:cNvPicPr/>
          <p:nvPr/>
        </p:nvPicPr>
        <p:blipFill>
          <a:blip r:embed="rId2"/>
          <a:stretch/>
        </p:blipFill>
        <p:spPr>
          <a:xfrm>
            <a:off x="214200" y="1357200"/>
            <a:ext cx="3857760" cy="29289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14200" y="47862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литка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286160" y="476640"/>
            <a:ext cx="464364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Уравнение в прямоуголь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(x^2+y^2-ay)^2=\ell^2(x^2+y^2)"/>
          <p:cNvPicPr/>
          <p:nvPr/>
        </p:nvPicPr>
        <p:blipFill>
          <a:blip r:embed="rId3"/>
          <a:stretch/>
        </p:blipFill>
        <p:spPr>
          <a:xfrm>
            <a:off x="4572000" y="1500120"/>
            <a:ext cx="2857680" cy="2905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4286160" y="1856520"/>
            <a:ext cx="4500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 поляр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\rho = \ell-a \sin\phi."/>
          <p:cNvPicPr/>
          <p:nvPr/>
        </p:nvPicPr>
        <p:blipFill>
          <a:blip r:embed="rId4"/>
          <a:stretch/>
        </p:blipFill>
        <p:spPr>
          <a:xfrm>
            <a:off x="5072040" y="2286000"/>
            <a:ext cx="1785960" cy="3142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8"/>
          <p:cNvSpPr/>
          <p:nvPr/>
        </p:nvSpPr>
        <p:spPr>
          <a:xfrm>
            <a:off x="4286160" y="2714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диаметр исходной окружности, а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расстояние, на которое смещается точка вдоль радиус-ве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3714840" y="3938760"/>
            <a:ext cx="5143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лощадь, ограниченная улиткой Паска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   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ри                 площадь внутренней петли при вычислении по этой формуле считается дваж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S=\frac{\pi a^2}2+\pi \ell^2"/>
          <p:cNvPicPr/>
          <p:nvPr/>
        </p:nvPicPr>
        <p:blipFill>
          <a:blip r:embed="rId5"/>
          <a:stretch/>
        </p:blipFill>
        <p:spPr>
          <a:xfrm>
            <a:off x="5786280" y="4572000"/>
            <a:ext cx="1571760" cy="523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a&gt;\ell"/>
          <p:cNvPicPr/>
          <p:nvPr/>
        </p:nvPicPr>
        <p:blipFill>
          <a:blip r:embed="rId6"/>
          <a:stretch/>
        </p:blipFill>
        <p:spPr>
          <a:xfrm>
            <a:off x="4786200" y="5286240"/>
            <a:ext cx="642960" cy="2145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2"/>
          <p:cNvSpPr/>
          <p:nvPr/>
        </p:nvSpPr>
        <p:spPr>
          <a:xfrm>
            <a:off x="2714760" y="21420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24000" y="620640"/>
            <a:ext cx="842940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Кривые третьего поря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тличительная особенность этих более сложных кривых состоит в том, что они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могут иметь точку перегиба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Если вы знакомы с графиком функции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то конечно видели тот перегиб, который происходит в начале координат. Кривые третьего порядка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хорошо соответствуют тем линиям, которые мы наблюдаем в живой природе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например линиям изгиба человеческого тела, поэтому в качестве основных объектов векторной графики используют именно такие линии. Все прямые и кривые второго порядка (например, окружности или эллипсы) являются частными случаями кривых третьего порядка. В общем случае уравнение кривой третьего порядка можно записать так: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9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идно, что для записи кривой третьего порядка достаточно девяти параметров. Для задания отрезка кривой третьего порядка, надо иметь на два параметра бо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вал Касс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3" descr="PedalCurve2.gif"/>
          <p:cNvPicPr/>
          <p:nvPr/>
        </p:nvPicPr>
        <p:blipFill>
          <a:blip r:embed="rId1"/>
          <a:stretch/>
        </p:blipFill>
        <p:spPr>
          <a:xfrm>
            <a:off x="2409840" y="1687680"/>
            <a:ext cx="43243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-360" y="100008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300" spc="-1" strike="noStrike">
                <a:solidFill>
                  <a:srgbClr val="ffffff"/>
                </a:solidFill>
                <a:latin typeface="Calibri"/>
              </a:rPr>
              <a:t>Ро́за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лоская кривая, напоминающее символическое изображение цветка. Данная кривая описывается уравнением в полярной системе координат в виде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остоянные, определяющие размер (a) и количество лепестков (k) данной розы. Вся кривая располагается внутри окружности радиуса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в случа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состоит из одинаковых по форме и размеру лепестков. Количество лепестков в данном случае определяется величиной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Для цел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число лепестков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нечётно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 — если чётное. Для дробн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ида , гд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заимно простые, количество лепестков розы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оба числа нечётны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хотя бы одно — чётно.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ррациональном лепестков бесконечно много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При значениях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роза является гипотрохоидой, а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lt; 1 — эпитрохоидой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3" descr="0cdde3940d7e5d80904ec9c8729f98fe.png"/>
          <p:cNvPicPr/>
          <p:nvPr/>
        </p:nvPicPr>
        <p:blipFill>
          <a:blip r:embed="rId2"/>
          <a:stretch/>
        </p:blipFill>
        <p:spPr>
          <a:xfrm>
            <a:off x="5143680" y="1643040"/>
            <a:ext cx="1468080" cy="28584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4" descr=""/>
          <p:cNvPicPr/>
          <p:nvPr/>
        </p:nvPicPr>
        <p:blipFill>
          <a:blip r:embed="rId3"/>
          <a:stretch/>
        </p:blipFill>
        <p:spPr>
          <a:xfrm>
            <a:off x="3279600" y="-212760"/>
            <a:ext cx="22924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3" descr="Rhodonea_curve.png"/>
          <p:cNvPicPr/>
          <p:nvPr/>
        </p:nvPicPr>
        <p:blipFill>
          <a:blip r:embed="rId2"/>
          <a:stretch/>
        </p:blipFill>
        <p:spPr>
          <a:xfrm>
            <a:off x="1979640" y="404640"/>
            <a:ext cx="5286240" cy="52405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285920" y="5786280"/>
            <a:ext cx="67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щий вид полярной розы при различных значениях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1143000"/>
            <a:ext cx="4857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Дельтоид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кривая Штейнер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) — плоская алгебраическая кривая, описываемая фиксированной точкой окружности, катящейся по внутренней стороне другой окружности, радиус которой втрое больше радиуса перв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Дельтоида является частным случаем гипоциклоиды при </a:t>
            </a:r>
            <a:r>
              <a:rPr b="0" i="1" lang="en-US" sz="26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=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Прямоугольник 3" descr=""/>
          <p:cNvPicPr/>
          <p:nvPr/>
        </p:nvPicPr>
        <p:blipFill>
          <a:blip r:embed="rId2"/>
          <a:stretch/>
        </p:blipFill>
        <p:spPr>
          <a:xfrm>
            <a:off x="2352600" y="-73080"/>
            <a:ext cx="4157640" cy="1146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Admin\Мои документы\Мои рисунки\Deltoid_curve.gif"/>
          <p:cNvPicPr/>
          <p:nvPr/>
        </p:nvPicPr>
        <p:blipFill>
          <a:blip r:embed="rId3"/>
          <a:stretch/>
        </p:blipFill>
        <p:spPr>
          <a:xfrm>
            <a:off x="500076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6"/>
          <p:cNvSpPr/>
          <p:nvPr/>
        </p:nvSpPr>
        <p:spPr>
          <a:xfrm>
            <a:off x="571680" y="28584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явное уравнение в прямоугольной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раметрическо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де                 - треть полярного уг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7" descr="6c71397955035eaa4ebee469114f73d7.png"/>
          <p:cNvPicPr/>
          <p:nvPr/>
        </p:nvPicPr>
        <p:blipFill>
          <a:blip r:embed="rId2"/>
          <a:stretch/>
        </p:blipFill>
        <p:spPr>
          <a:xfrm>
            <a:off x="500040" y="1214280"/>
            <a:ext cx="6656400" cy="3906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f75f5b0bfdd8b02ea11bc424491b9a5b.png"/>
          <p:cNvPicPr/>
          <p:nvPr/>
        </p:nvPicPr>
        <p:blipFill>
          <a:blip r:embed="rId3"/>
          <a:stretch/>
        </p:blipFill>
        <p:spPr>
          <a:xfrm>
            <a:off x="500040" y="2500200"/>
            <a:ext cx="2614680" cy="785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9" descr="6b9e40acf514d9d055a2ad31cb4e585c.png"/>
          <p:cNvPicPr/>
          <p:nvPr/>
        </p:nvPicPr>
        <p:blipFill>
          <a:blip r:embed="rId4"/>
          <a:stretch/>
        </p:blipFill>
        <p:spPr>
          <a:xfrm>
            <a:off x="3857760" y="2500200"/>
            <a:ext cx="704880" cy="5288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0" descr="120px-Hypocycloid-3_svg.png"/>
          <p:cNvPicPr/>
          <p:nvPr/>
        </p:nvPicPr>
        <p:blipFill>
          <a:blip r:embed="rId5"/>
          <a:stretch/>
        </p:blipFill>
        <p:spPr>
          <a:xfrm>
            <a:off x="3429000" y="3643200"/>
            <a:ext cx="25718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672000" y="135720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ипотрохоид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 — плоская кривая, образуемая фиксированной точкой, находящейся на фиксированной радиальной прямой окружности, катящейся по внутренней стороне другой окруж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Прямоугольник 3" descr=""/>
          <p:cNvPicPr/>
          <p:nvPr/>
        </p:nvPicPr>
        <p:blipFill>
          <a:blip r:embed="rId2"/>
          <a:stretch/>
        </p:blipFill>
        <p:spPr>
          <a:xfrm>
            <a:off x="1932120" y="0"/>
            <a:ext cx="5097240" cy="1146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Hypotrochoid2_2.gif"/>
          <p:cNvPicPr/>
          <p:nvPr/>
        </p:nvPicPr>
        <p:blipFill>
          <a:blip r:embed="rId3"/>
          <a:stretch/>
        </p:blipFill>
        <p:spPr>
          <a:xfrm>
            <a:off x="214200" y="1571760"/>
            <a:ext cx="3643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428760" y="225720"/>
            <a:ext cx="84294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араметрические уравнени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в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рямоугольно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\begin{cases}&#10;x = (R - r)\cos\varphi + h\cos\left({R - r \over r}\varphi\right)\\&#10;y = (R - r)\sin\varphi - h\sin\left({R - r \over r}\varphi\right)&#10;\end{cases}"/>
          <p:cNvPicPr/>
          <p:nvPr/>
        </p:nvPicPr>
        <p:blipFill>
          <a:blip r:embed="rId2"/>
          <a:stretch/>
        </p:blipFill>
        <p:spPr>
          <a:xfrm>
            <a:off x="3357720" y="1214280"/>
            <a:ext cx="2761920" cy="5716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7"/>
          <p:cNvSpPr/>
          <p:nvPr/>
        </p:nvSpPr>
        <p:spPr>
          <a:xfrm>
            <a:off x="571680" y="2071800"/>
            <a:ext cx="81435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диусы окружностей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ответственно, а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сстояние от точк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 центра катящейся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точка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жит на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гипотрохоида называетс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ипоциклоидой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8" descr="0402-28.jpg"/>
          <p:cNvPicPr/>
          <p:nvPr/>
        </p:nvPicPr>
        <p:blipFill>
          <a:blip r:embed="rId3"/>
          <a:stretch/>
        </p:blipFill>
        <p:spPr>
          <a:xfrm>
            <a:off x="2357280" y="3857760"/>
            <a:ext cx="43657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-360" y="1071720"/>
            <a:ext cx="4429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100" spc="-1" strike="noStrike">
                <a:solidFill>
                  <a:srgbClr val="ffffff"/>
                </a:solidFill>
                <a:latin typeface="Calibri"/>
              </a:rPr>
              <a:t>Спирограф</a:t>
            </a: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 — детская игрушка, состоит из пластмассовой пластины с вырезанными кругами разных диаметров и набора колёс меньшего диаметра с отверстиями. Края кругов и колёс зубчатые, чтобы предотвратить проскальзывание. Метод использования: пластина прикладывается к листу бумаги, внутрь выбранного кругового отверстия помещается одно из зубчатых колёс, в одно из отверстий которого вставляется шариковая ручка или карандаш. Затем зубчатое колесо приводится в движение лёгким нажимом на пишущий элемент, который оставляет на бумаге красивый спиральный след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Прямоугольник 3" descr=""/>
          <p:cNvPicPr/>
          <p:nvPr/>
        </p:nvPicPr>
        <p:blipFill>
          <a:blip r:embed="rId2"/>
          <a:stretch/>
        </p:blipFill>
        <p:spPr>
          <a:xfrm>
            <a:off x="2225520" y="0"/>
            <a:ext cx="4334040" cy="1146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800px-Spirograph.jpg"/>
          <p:cNvPicPr/>
          <p:nvPr/>
        </p:nvPicPr>
        <p:blipFill>
          <a:blip r:embed="rId3"/>
          <a:stretch/>
        </p:blipFill>
        <p:spPr>
          <a:xfrm>
            <a:off x="4394160" y="1143000"/>
            <a:ext cx="4511880" cy="30002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4857840" y="478620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пирограф, производившийся в СССР в 1980-е гг. (ОСТ 6-19-417-80 и 14МО.390.319, артикул НК-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3" descr="Various_Spirograph_Designs.jpg"/>
          <p:cNvPicPr/>
          <p:nvPr/>
        </p:nvPicPr>
        <p:blipFill>
          <a:blip r:embed="rId1"/>
          <a:stretch/>
        </p:blipFill>
        <p:spPr>
          <a:xfrm>
            <a:off x="1071720" y="857160"/>
            <a:ext cx="6860880" cy="49291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928800" y="600084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ры картинок, полученных с помощью спирогра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242960" y="1143000"/>
            <a:ext cx="4900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огарифми́ческая спира́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зогональная спира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— особый вид спирали, часто встречающийся в природе. Логарифмическая спираль была впервые описана Декартом и позже интенсивно исследована Бернулли, который называл её Spira mirabilis, «удивительная спираль»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Прямоугольник 3" descr=""/>
          <p:cNvPicPr/>
          <p:nvPr/>
        </p:nvPicPr>
        <p:blipFill>
          <a:blip r:embed="rId2"/>
          <a:stretch/>
        </p:blipFill>
        <p:spPr>
          <a:xfrm>
            <a:off x="176040" y="0"/>
            <a:ext cx="9107640" cy="11462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5"/>
          <p:cNvSpPr/>
          <p:nvPr/>
        </p:nvSpPr>
        <p:spPr>
          <a:xfrm>
            <a:off x="285840" y="5286240"/>
            <a:ext cx="400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Логарифмическая спира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(наклон 10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5" descr="LogSpiral01.gif"/>
          <p:cNvPicPr/>
          <p:nvPr/>
        </p:nvPicPr>
        <p:blipFill>
          <a:blip r:embed="rId3"/>
          <a:stretch/>
        </p:blipFill>
        <p:spPr>
          <a:xfrm>
            <a:off x="28584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48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Нейля парабола –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оская алгебраическая кривая третьего порядка (иначе называется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олукубическая</a:t>
            </a: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арабола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происхождение этого названия ясно из формулы, задающей кривую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Ее уравнение в некоторой декартов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ямоугольной системе координат имее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ид: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ах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  (*)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метрические уравнени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y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&gt; 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 начале системы координат, в которой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име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равнение (*), у нее особа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очка – «точка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заострения»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или «клюв», или «точка возврата 1-го рода» – см. ри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ь абсцисс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сается обеих ветвей этой кривой в нача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оординат. Как установил и опубликовал в 1687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Х. Гюйгенс, по дуге этой кривой движется с постоянн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коростью материальная точка под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действием сил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яжести.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названа по имени английского матема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.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ейля,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ашедшего (1657 г.) длину дуги полукубическ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бол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6" descr=""/>
          <p:cNvPicPr/>
          <p:nvPr/>
        </p:nvPicPr>
        <p:blipFill>
          <a:blip r:embed="rId2"/>
          <a:stretch/>
        </p:blipFill>
        <p:spPr>
          <a:xfrm>
            <a:off x="237960" y="158760"/>
            <a:ext cx="8637840" cy="1335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0030602.jpg"/>
          <p:cNvPicPr/>
          <p:nvPr/>
        </p:nvPicPr>
        <p:blipFill>
          <a:blip r:embed="rId3"/>
          <a:stretch/>
        </p:blipFill>
        <p:spPr>
          <a:xfrm>
            <a:off x="4929120" y="2643120"/>
            <a:ext cx="3857760" cy="3967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image002.gif"/>
          <p:cNvPicPr/>
          <p:nvPr/>
        </p:nvPicPr>
        <p:blipFill>
          <a:blip r:embed="rId4"/>
          <a:stretch/>
        </p:blipFill>
        <p:spPr>
          <a:xfrm>
            <a:off x="1908000" y="3068640"/>
            <a:ext cx="3337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4"/>
          <p:cNvSpPr/>
          <p:nvPr/>
        </p:nvSpPr>
        <p:spPr>
          <a:xfrm>
            <a:off x="571680" y="500040"/>
            <a:ext cx="771516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лярных координатах  кривая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ли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араметрической форме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5" descr="4167028b0716efd2bf7ab401e3e8cdc0.png"/>
          <p:cNvPicPr/>
          <p:nvPr/>
        </p:nvPicPr>
        <p:blipFill>
          <a:blip r:embed="rId2"/>
          <a:stretch/>
        </p:blipFill>
        <p:spPr>
          <a:xfrm>
            <a:off x="2357280" y="1785960"/>
            <a:ext cx="1217880" cy="2998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6" descr="d3c832248e920debb6ad66652d75ca0c.png"/>
          <p:cNvPicPr/>
          <p:nvPr/>
        </p:nvPicPr>
        <p:blipFill>
          <a:blip r:embed="rId3"/>
          <a:stretch/>
        </p:blipFill>
        <p:spPr>
          <a:xfrm>
            <a:off x="5214960" y="1714680"/>
            <a:ext cx="1671480" cy="4809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19bac69f6006484b27458d813f632cf6.png"/>
          <p:cNvPicPr/>
          <p:nvPr/>
        </p:nvPicPr>
        <p:blipFill>
          <a:blip r:embed="rId4"/>
          <a:stretch/>
        </p:blipFill>
        <p:spPr>
          <a:xfrm>
            <a:off x="2500200" y="3214800"/>
            <a:ext cx="3429000" cy="395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0" descr="1a7e08476800f77290f1941562d147b8.png"/>
          <p:cNvPicPr/>
          <p:nvPr/>
        </p:nvPicPr>
        <p:blipFill>
          <a:blip r:embed="rId5"/>
          <a:stretch/>
        </p:blipFill>
        <p:spPr>
          <a:xfrm>
            <a:off x="2500200" y="4000680"/>
            <a:ext cx="3429000" cy="428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Documents and Settings\Admin\Мои документы\Мои рисунки\Logarithmic_spiral.png"/>
          <p:cNvPicPr/>
          <p:nvPr/>
        </p:nvPicPr>
        <p:blipFill>
          <a:blip r:embed="rId6"/>
          <a:stretch/>
        </p:blipFill>
        <p:spPr>
          <a:xfrm>
            <a:off x="6215040" y="4143240"/>
            <a:ext cx="235764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C:\Documents and Settings\Admin\Мои документы\Мои рисунки\692px-Low_pressure_system_over_Iceland.jpg"/>
          <p:cNvPicPr/>
          <p:nvPr/>
        </p:nvPicPr>
        <p:blipFill>
          <a:blip r:embed="rId1"/>
          <a:stretch/>
        </p:blipFill>
        <p:spPr>
          <a:xfrm>
            <a:off x="1500120" y="428760"/>
            <a:ext cx="6305760" cy="52815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6"/>
          <p:cNvSpPr/>
          <p:nvPr/>
        </p:nvSpPr>
        <p:spPr>
          <a:xfrm>
            <a:off x="1643040" y="59292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асть низкого давления над Исланд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Admin\Мои документы\Мои рисунки\793px-NautilusCutawayLogarithmicSpiral.jpg"/>
          <p:cNvPicPr/>
          <p:nvPr/>
        </p:nvPicPr>
        <p:blipFill>
          <a:blip r:embed="rId1"/>
          <a:stretch/>
        </p:blipFill>
        <p:spPr>
          <a:xfrm>
            <a:off x="1143000" y="428760"/>
            <a:ext cx="6802560" cy="51386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1214280" y="574992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ковина моллюска по форме близка к логарифмической спир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Documents and Settings\Admin\Мои документы\Мои рисунки\800px-Messier51.jpg"/>
          <p:cNvPicPr/>
          <p:nvPr/>
        </p:nvPicPr>
        <p:blipFill>
          <a:blip r:embed="rId1"/>
          <a:stretch/>
        </p:blipFill>
        <p:spPr>
          <a:xfrm>
            <a:off x="655560" y="500040"/>
            <a:ext cx="7516800" cy="52149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1428840" y="592920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ральная галактика «Водоворо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лоская кривая третьего порядка,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довлетворяюща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ю в прямоугольной систем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x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(*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араметр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определяется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как диагональ квадрат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рона которого равна наибольшей хорде пет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Таким образом, декартов лист – кривая третье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рядка. Она имеет асимптоту – прямую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ожив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(**), параметризуем кривую: из (*) и (**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учим параметрические уравнения декартова лис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 (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ρ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φ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декартов лист имее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скольку координаты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ходят в уравн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екартова листа (*) симметрично, кривая расположена симметрично относительно прямой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биссектрисы первого и третьего координатных углов. Начало координат –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зловая точк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декартова листа (называется также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точкой самопересечен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кратной точкой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Frans_Hals_-_Portret_van_Ren%C3%A9_Descartes.jpg"/>
          <p:cNvPicPr/>
          <p:nvPr/>
        </p:nvPicPr>
        <p:blipFill>
          <a:blip r:embed="rId2"/>
          <a:stretch/>
        </p:blipFill>
        <p:spPr>
          <a:xfrm>
            <a:off x="357120" y="1214280"/>
            <a:ext cx="3097440" cy="40006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714240" y="528624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ене Дек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6" descr=""/>
          <p:cNvPicPr/>
          <p:nvPr/>
        </p:nvPicPr>
        <p:blipFill>
          <a:blip r:embed="rId3"/>
          <a:stretch/>
        </p:blipFill>
        <p:spPr>
          <a:xfrm>
            <a:off x="2124000" y="-100080"/>
            <a:ext cx="5181840" cy="1146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image004.gif"/>
          <p:cNvPicPr/>
          <p:nvPr/>
        </p:nvPicPr>
        <p:blipFill>
          <a:blip r:embed="rId4"/>
          <a:stretch/>
        </p:blipFill>
        <p:spPr>
          <a:xfrm>
            <a:off x="5500800" y="4786200"/>
            <a:ext cx="2071440" cy="701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8" descr="image002.gif"/>
          <p:cNvPicPr/>
          <p:nvPr/>
        </p:nvPicPr>
        <p:blipFill>
          <a:blip r:embed="rId5"/>
          <a:stretch/>
        </p:blipFill>
        <p:spPr>
          <a:xfrm>
            <a:off x="5429160" y="3786120"/>
            <a:ext cx="19922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33300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первые уравнение крив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сследовал Р. Декарт в 1638 году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днако он построил только петл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первом координатном угл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где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принимают положитель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начения. Декарт полагал, что петл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имметрично повторяется во все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ырёх координатных четвертя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виде четырёх лепестков цвет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то время эта кривая называлас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цветком жасмина (англ.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jasmine flower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р. 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fleur de jasmin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современном виде эту кривую вперв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едставил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X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Гюйген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692 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Descartes_folium2.png"/>
          <p:cNvPicPr/>
          <p:nvPr/>
        </p:nvPicPr>
        <p:blipFill>
          <a:blip r:embed="rId2"/>
          <a:stretch/>
        </p:blipFill>
        <p:spPr>
          <a:xfrm>
            <a:off x="5148360" y="836640"/>
            <a:ext cx="3514680" cy="3571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5572080" y="52149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«Цветок Жасм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550px-Folium_of_Descartes_svg.png"/>
          <p:cNvPicPr/>
          <p:nvPr/>
        </p:nvPicPr>
        <p:blipFill>
          <a:blip r:embed="rId1"/>
          <a:stretch/>
        </p:blipFill>
        <p:spPr>
          <a:xfrm>
            <a:off x="2714760" y="1214280"/>
            <a:ext cx="3971880" cy="374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2857680" y="52149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картов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1285920"/>
            <a:ext cx="4643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окон Аньези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плоская алгебраическая кривая третьего порядка. В подходящей прямоугольной декартовой системе координат ее уравнение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) =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Функция четная; горизонтальная асимптота – ось абсцисс; площадь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бесконечной) области между кривой и осью абсцисс можно найти по форму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πa</a:t>
            </a:r>
            <a:r>
              <a:rPr b="1" lang="ru-RU" sz="16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ометрически можно задать эту кривую следующим образом. Рассмотрим окружность радиуса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 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центром в точке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0;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)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ведем к окружности из начала координат, точк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секущ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пересекающую окружность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а прям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Определим теперь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к точку пересечения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абсцисс, с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ординат. Геометрическое место таких точек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 есть «локон Аньез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ивая названа по имени французской женщины-математика Марии Аньези, изучавшей эту кривую (1748 г.), хотя кривая была ранее известна П. Фер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аче эту кривую называют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ерсь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верзиерой) ил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ньез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Agnesi_3.jpg"/>
          <p:cNvPicPr/>
          <p:nvPr/>
        </p:nvPicPr>
        <p:blipFill>
          <a:blip r:embed="rId2"/>
          <a:stretch/>
        </p:blipFill>
        <p:spPr>
          <a:xfrm>
            <a:off x="4786200" y="1285920"/>
            <a:ext cx="4143600" cy="46512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" descr=""/>
          <p:cNvPicPr/>
          <p:nvPr/>
        </p:nvPicPr>
        <p:blipFill>
          <a:blip r:embed="rId3"/>
          <a:stretch/>
        </p:blipFill>
        <p:spPr>
          <a:xfrm>
            <a:off x="1938240" y="139680"/>
            <a:ext cx="5102280" cy="1146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5"/>
          <p:cNvSpPr/>
          <p:nvPr/>
        </p:nvSpPr>
        <p:spPr>
          <a:xfrm>
            <a:off x="4714920" y="61498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рия Гаэтана Аньези – итальянский математик и филантр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800px-Witch_of_Agnesi_2_svg.png"/>
          <p:cNvPicPr/>
          <p:nvPr/>
        </p:nvPicPr>
        <p:blipFill>
          <a:blip r:embed="rId1"/>
          <a:stretch/>
        </p:blipFill>
        <p:spPr>
          <a:xfrm>
            <a:off x="714240" y="1285920"/>
            <a:ext cx="7620120" cy="28573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2286000" y="457200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окон Аньез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4008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от греч. stróphos — кручёная лента и éidos — вид)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500120"/>
            <a:ext cx="4143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декартовой системе координат, где ось абсцисс направлена по OX, а ось ординат по OD, задана фиксированная точка A на оси OX. Через т. А проводится произвольная прямая AL, которая пересекает ось ординат в точке P. От точки P, на расстоянии равном OP, в обе стороны вдоль прямой AL находятся точки M1 и M2. Геометрическое место точек M1 и M2 образуют строфои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прямоугольной системе координат строится прямая строфоида или просто строфоида, которая изображена на Рис.1. В косоугольной системе координат строится косая строфоида — Рис.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Прямоугольник 6" descr=""/>
          <p:cNvPicPr/>
          <p:nvPr/>
        </p:nvPicPr>
        <p:blipFill>
          <a:blip r:embed="rId2"/>
          <a:stretch/>
        </p:blipFill>
        <p:spPr>
          <a:xfrm>
            <a:off x="2212920" y="-212760"/>
            <a:ext cx="4260960" cy="1139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roberval.jpg"/>
          <p:cNvPicPr/>
          <p:nvPr/>
        </p:nvPicPr>
        <p:blipFill>
          <a:blip r:embed="rId3"/>
          <a:stretch/>
        </p:blipFill>
        <p:spPr>
          <a:xfrm>
            <a:off x="4857840" y="1500120"/>
            <a:ext cx="3786120" cy="428616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4929120" y="592920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иль Роберваль – французский математ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9:30:48Z</dcterms:created>
  <dc:creator>user</dc:creator>
  <dc:description/>
  <dc:language>en-US</dc:language>
  <cp:lastModifiedBy>user</cp:lastModifiedBy>
  <dcterms:modified xsi:type="dcterms:W3CDTF">2011-05-11T20:26:53Z</dcterms:modified>
  <cp:revision>49</cp:revision>
  <dc:subject/>
  <dc:title>Слайд 1</dc:title>
</cp:coreProperties>
</file>